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46A-32F2-48A9-B002-D40014B5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6DF-A2C5-4BAA-A6C8-C52001DF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F6A-372D-4F9A-92A6-0DCF4D60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4B2-84CA-496D-A324-2F9A6407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6F7-BE21-4D8F-A936-CFBC0A23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76D-F567-4FC7-888A-CAF1C8FC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52E-4D3F-423C-AC7C-6234C0A0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B58-E3A2-42D9-BEE4-A01B0961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DCF-5E57-4059-A60D-BDBC19D4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62F-3201-4E3E-869C-DB94B21F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6B0-964A-48BE-B879-2A7FAF51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712-2312-4A29-9104-22723DE9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CE78-8B83-45B9-97B9-427B38C1E6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249120" y="1957320"/>
            <a:ext cx="835200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5805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Собаки-космонавты Белка и Стрелка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belka_strelka_b"/>
          <p:cNvPicPr/>
          <p:nvPr/>
        </p:nvPicPr>
        <p:blipFill>
          <a:blip r:embed="rId1"/>
          <a:stretch/>
        </p:blipFill>
        <p:spPr>
          <a:xfrm>
            <a:off x="1042920" y="0"/>
            <a:ext cx="6840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ебя вспоминают Парижа окраины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сторы Москвы и рязанская рож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 дети на свете играют в Гагарин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начит, ты на планете живёшь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Первый космонавт в скафандре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3" name="Picture 5" descr="gagarin"/>
          <p:cNvPicPr/>
          <p:nvPr/>
        </p:nvPicPr>
        <p:blipFill>
          <a:blip r:embed="rId1"/>
          <a:stretch/>
        </p:blipFill>
        <p:spPr>
          <a:xfrm>
            <a:off x="971640" y="0"/>
            <a:ext cx="727380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64000" y="274320"/>
            <a:ext cx="36720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Юрий Алексеевич Гагарин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(1934-1968)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лётчик-космонавт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84360" y="189000"/>
            <a:ext cx="295308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Капсула 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Гагарина Ю.А. одновременно являлась и кабиной космонавта, диаметром 2,3 м, покрытая абляционным материалом для тепловой защиты при входе в атмосферу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Picture 6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Российские женщины космонавты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79280" y="479736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Валентина Терешк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203640" y="5157720"/>
            <a:ext cx="2735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Светлана Савиц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6156360" y="5661000"/>
            <a:ext cx="2612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Елена Кондак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6086" t="5576" r="7243" b="11116"/>
          <a:stretch/>
        </p:blipFill>
        <p:spPr>
          <a:xfrm>
            <a:off x="324000" y="907920"/>
            <a:ext cx="2579400" cy="360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2475" t="0" r="7316" b="16927"/>
          <a:stretch/>
        </p:blipFill>
        <p:spPr>
          <a:xfrm>
            <a:off x="3132000" y="1197000"/>
            <a:ext cx="2664000" cy="360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156360" y="1628640"/>
            <a:ext cx="2617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Выход Алексея Леонова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в открытый космос, 18.03.1965 г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1109" b="0"/>
          <a:stretch/>
        </p:blipFill>
        <p:spPr>
          <a:xfrm>
            <a:off x="0" y="0"/>
            <a:ext cx="91440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Современная международная космическая станци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247" t="1626" r="1720" b="2299"/>
          <a:stretch/>
        </p:blipFill>
        <p:spPr>
          <a:xfrm>
            <a:off x="4464000" y="1989000"/>
            <a:ext cx="4680000" cy="3645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SS_March_2009"/>
          <p:cNvPicPr/>
          <p:nvPr/>
        </p:nvPicPr>
        <p:blipFill>
          <a:blip r:embed="rId2"/>
          <a:stretch/>
        </p:blipFill>
        <p:spPr>
          <a:xfrm>
            <a:off x="0" y="0"/>
            <a:ext cx="47880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5300280"/>
            <a:ext cx="813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Международная космическая станци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9377" t="4372" r="25438" b="8651"/>
          <a:stretch/>
        </p:blipFill>
        <p:spPr>
          <a:xfrm>
            <a:off x="0" y="0"/>
            <a:ext cx="4932360" cy="436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0" t="0" r="26384" b="0"/>
          <a:stretch/>
        </p:blipFill>
        <p:spPr>
          <a:xfrm>
            <a:off x="4356000" y="1413000"/>
            <a:ext cx="478800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воение космоса открыло перед наукой безграничные возможности изучения Вселенно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24000" y="188640"/>
            <a:ext cx="3116520" cy="639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Нам Циолковский напророчил,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Что в космос выйдет человек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В его мечтах поставил точку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Мятежный наш 20-й век!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Константин Эдуардович Циолковский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1857-1935)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Теоретик-изобретатель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3" name="Picture 6" descr="циалковский"/>
          <p:cNvPicPr/>
          <p:nvPr/>
        </p:nvPicPr>
        <p:blipFill>
          <a:blip r:embed="rId1"/>
          <a:stretch/>
        </p:blipFill>
        <p:spPr>
          <a:xfrm>
            <a:off x="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2" descr=""/>
          <p:cNvPicPr/>
          <p:nvPr/>
        </p:nvPicPr>
        <p:blipFill>
          <a:blip r:embed="rId1"/>
          <a:stretch/>
        </p:blipFill>
        <p:spPr>
          <a:xfrm>
            <a:off x="201600" y="2230560"/>
            <a:ext cx="87408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31308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Чертеж первого космического корабля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К. Э. Циолковского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8" descr="788060"/>
          <p:cNvPicPr/>
          <p:nvPr/>
        </p:nvPicPr>
        <p:blipFill>
          <a:blip r:embed="rId1"/>
          <a:stretch/>
        </p:blipFill>
        <p:spPr>
          <a:xfrm>
            <a:off x="0" y="0"/>
            <a:ext cx="56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2360" y="3284640"/>
            <a:ext cx="8229600" cy="25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Ученый построил на чердаке своего дома примитивную аэродинамическую трубу, на которой производил опыты с деревянными моделями. </a:t>
            </a:r>
            <a:br>
              <a:rPr sz="28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Циолковского, 1911 г.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Picture 6" descr="000034"/>
          <p:cNvPicPr/>
          <p:nvPr/>
        </p:nvPicPr>
        <p:blipFill>
          <a:blip r:embed="rId1"/>
          <a:stretch/>
        </p:blipFill>
        <p:spPr>
          <a:xfrm>
            <a:off x="0" y="0"/>
            <a:ext cx="9144000" cy="2766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250920" y="2852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Схема реактивного приб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7280" y="0"/>
            <a:ext cx="4537080" cy="623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Первый конструктор космических кораблей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Сергей Павлович Королёв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(1907-1966)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Picture 6" descr="200px-Sergey_Korolyov"/>
          <p:cNvPicPr/>
          <p:nvPr/>
        </p:nvPicPr>
        <p:blipFill>
          <a:blip r:embed="rId1"/>
          <a:stretch/>
        </p:blipFill>
        <p:spPr>
          <a:xfrm>
            <a:off x="179280" y="0"/>
            <a:ext cx="41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" y="4581000"/>
            <a:ext cx="8964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В августе 1946 г. С.П. Королев был назначен главным конструктором баллистических ракет дальнего действия и начальником по их разработке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Picture 2" descr="C:\Documents and Settings\Sea\Рабочий стол\моя\Космос\К.jpg"/>
          <p:cNvPicPr/>
          <p:nvPr/>
        </p:nvPicPr>
        <p:blipFill>
          <a:blip r:embed="rId1"/>
          <a:stretch/>
        </p:blipFill>
        <p:spPr>
          <a:xfrm>
            <a:off x="1332000" y="260280"/>
            <a:ext cx="6553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16360" y="333000"/>
            <a:ext cx="24685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Ракета-носитель первого Спутника Земли. Спутник был запущен 04.10.1957 г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Picture 2" descr="C:\Documents and Settings\Sea\Рабочий стол\моя\Космос\Ракето-носитель первого Спутника Земли.jpg"/>
          <p:cNvPicPr/>
          <p:nvPr/>
        </p:nvPicPr>
        <p:blipFill>
          <a:blip r:embed="rId1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65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Первый спутник – контейнер сферической формы, диаметр 580 мм. Четыре антенны длиной 2,4 м  3,9 м. Существовал 92 дня, сделал 1 440 оборотов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Picture 8" descr="A209C186-BF5D-4EF6-8B1A-F06A3092D1F3_mw800_mh600_s"/>
          <p:cNvPicPr/>
          <p:nvPr/>
        </p:nvPicPr>
        <p:blipFill>
          <a:blip r:embed="rId1"/>
          <a:stretch/>
        </p:blipFill>
        <p:spPr>
          <a:xfrm>
            <a:off x="755640" y="0"/>
            <a:ext cx="7416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9497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Лайка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Первая собака-космонавт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2" descr="C:\Documents and Settings\Sea\Рабочий стол\моя\Космос\Первое животное в Космосе, собака Лай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8:05:10Z</dcterms:created>
  <dc:creator>WiZaRd</dc:creator>
  <dc:description/>
  <dc:language>en-US</dc:language>
  <cp:lastModifiedBy>1</cp:lastModifiedBy>
  <dcterms:modified xsi:type="dcterms:W3CDTF">2013-04-06T08:44:27Z</dcterms:modified>
  <cp:revision>27</cp:revision>
  <dc:subject/>
  <dc:title>Слайд 1</dc:title>
</cp:coreProperties>
</file>