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056F4-A10A-43A9-8FA6-7287E7B7F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736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600"/>
            <a:ext cx="740736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B7A3-CB17-4141-97A3-00751CFCB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476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7400" y="2674440"/>
            <a:ext cx="361476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600"/>
            <a:ext cx="361476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7400" y="4476600"/>
            <a:ext cx="361476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71DA8-EF79-4B33-8023-97BEE8BEF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080" y="267444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0960" y="267444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60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080" y="447660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0960" y="447660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831D-95CD-4DC9-9963-D473B6EF7B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736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5C24-6D9D-468B-9A7B-A8BD369D8A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736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F3B9-61DA-4C7E-8B2C-D38666EA5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476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400" y="2674440"/>
            <a:ext cx="361476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7167-C513-4393-99F4-FE00FFCBF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B23D-E51B-4F75-9744-2BB0869ED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4768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2354-4EBE-43BF-AD12-17B6C0353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476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2674440"/>
            <a:ext cx="361476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600"/>
            <a:ext cx="361476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DB33-AEA9-45E9-9617-4999D5899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476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2674440"/>
            <a:ext cx="361476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7400" y="4476600"/>
            <a:ext cx="361476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C8FA-850A-40D2-BE65-188D4F7C5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476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2674440"/>
            <a:ext cx="361476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600"/>
            <a:ext cx="740736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CFCE-73F3-495A-ABA3-A440780C0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83d3fe"/>
              </a:gs>
              <a:gs pos="100000">
                <a:srgbClr val="0293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210960" y="5354640"/>
            <a:ext cx="8722080" cy="1328760"/>
            <a:chOff x="210960" y="5354640"/>
            <a:chExt cx="8722080" cy="1328760"/>
          </a:xfrm>
        </p:grpSpPr>
        <p:sp>
          <p:nvSpPr>
            <p:cNvPr id="2" name="Freeform 3"/>
            <p:cNvSpPr/>
            <p:nvPr/>
          </p:nvSpPr>
          <p:spPr>
            <a:xfrm>
              <a:off x="6054840" y="5499000"/>
              <a:ext cx="2878200" cy="7128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2620800" y="5370480"/>
              <a:ext cx="555012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832120" y="5383080"/>
              <a:ext cx="5473800" cy="7732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5616720" y="5370480"/>
              <a:ext cx="3311280" cy="6494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210960" y="5354640"/>
              <a:ext cx="8722080" cy="13287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736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3990960" y="6249960"/>
            <a:ext cx="1160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4D30-2CEE-45B0-81BC-52AD5642597E}" type="slidenum">
              <a:rPr b="0" lang="ru-RU" sz="1000" spc="-1" strike="noStrike">
                <a:solidFill>
                  <a:srgbClr val="073e87"/>
                </a:solidFill>
                <a:latin typeface="Times New Roman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50880" y="214200"/>
            <a:ext cx="7407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ликая цель образования – 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 знания, а действия»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ерт Спенсер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3800" y="2839680"/>
            <a:ext cx="7301160" cy="3174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00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00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00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дагогический сове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«Универсальные учебные действия как основа реализации образовательного стандарта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00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1 марта 2013 год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0" name="Picture 4" descr="D:\картинки школа\звонок.jpg"/>
          <p:cNvPicPr/>
          <p:nvPr/>
        </p:nvPicPr>
        <p:blipFill>
          <a:blip r:embed="rId1"/>
          <a:stretch/>
        </p:blipFill>
        <p:spPr>
          <a:xfrm>
            <a:off x="1571760" y="214200"/>
            <a:ext cx="2428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 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Функции универсальных учебных действий включают:   </a:t>
            </a:r>
            <a:br>
              <a:rPr sz="2700"/>
            </a:br>
            <a:endParaRPr b="0" lang="en-US" sz="3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2209320"/>
            <a:ext cx="740736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беспечение возможностей учащегося самостоятельно осуществлять деятельность учения, ставить учебные цели, искать и использовать необходимые средства и способы их достижения, контролировать и оценивать процесс и результаты деятельности;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создание условий для гармоничного развития личности и ее самореализации на основе готовности к непрерывному образованию;   обеспечение успешного усвоения знаний, умений и навыков и формирование компетентностей в любой предметной област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300"/>
            </a:br>
            <a:r>
              <a:rPr b="0" lang="ru-RU" sz="2700" spc="-1" strike="noStrike">
                <a:solidFill>
                  <a:srgbClr val="000000"/>
                </a:solidFill>
                <a:latin typeface="Candara"/>
              </a:rPr>
              <a:t>В составе основных видов универсальных учебных действий, диктуемом ключевыми целями общего образования, можно выделить четыре блока: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71560" y="2674440"/>
            <a:ext cx="740736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личностный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егулятивный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включающий также действия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саморегуляции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знавательны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оммуникативны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71" name="Picture 4" descr="D:\картинки школа\опыты.jpg"/>
          <p:cNvPicPr/>
          <p:nvPr/>
        </p:nvPicPr>
        <p:blipFill>
          <a:blip r:embed="rId1"/>
          <a:stretch/>
        </p:blipFill>
        <p:spPr>
          <a:xfrm>
            <a:off x="6786720" y="4143240"/>
            <a:ext cx="20714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Универсальные учебные действия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71560" y="1904760"/>
            <a:ext cx="740736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Формирование коммуникативных УУД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(Нестерова М.Н.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Формирование познавательных УУД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(Павлова Т.Н.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Формирование регулятивных УУД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(Зайцева О.Ф.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Формирование личностных УУД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(Зотова С.В.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Результаты диагностических исследований в 4 – 5 классах по сформированности личностных универсальных учебных действий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(Терентьева Т.П.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5" name="Picture 3" descr="007dbf48c495"/>
          <p:cNvPicPr/>
          <p:nvPr/>
        </p:nvPicPr>
        <p:blipFill>
          <a:blip r:embed="rId1"/>
          <a:stretch/>
        </p:blipFill>
        <p:spPr>
          <a:xfrm>
            <a:off x="2928960" y="1428840"/>
            <a:ext cx="4429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Актуальность тем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71560" y="2674440"/>
            <a:ext cx="740736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501212"/>
                </a:solidFill>
                <a:latin typeface="Arial Black"/>
              </a:rPr>
              <a:t>«Вопрос системных изменений в школе касается практически любого человека в нашей стране и является одним из ключевых элементов национального развития»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501212"/>
                </a:solidFill>
                <a:latin typeface="Arial Black"/>
              </a:rPr>
              <a:t>Президент Российской Федерации Д.Медведев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501212"/>
                </a:solidFill>
                <a:latin typeface="Arial Black"/>
              </a:rPr>
              <a:t>Заседание Совета при Президенте Российской Федерации по науке, технологиям и образованию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501212"/>
                </a:solidFill>
                <a:latin typeface="Arial Black"/>
              </a:rPr>
              <a:t>15 октября 2008 года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3" name="Picture 4" descr="D:\картинки школа\президент.jpg"/>
          <p:cNvPicPr/>
          <p:nvPr/>
        </p:nvPicPr>
        <p:blipFill>
          <a:blip r:embed="rId1"/>
          <a:stretch/>
        </p:blipFill>
        <p:spPr>
          <a:xfrm>
            <a:off x="7429680" y="4000680"/>
            <a:ext cx="14284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Традиционный подход к обучению не оправдывает себя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1560" y="2209320"/>
            <a:ext cx="7407360" cy="39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чащиеся способны в основном только к воспроизведению знаний, переданных им учителем, а применить их в практической жизни они не в состоян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Передавая детям «ничейные» знания, отчужденные от их собственного опыта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школа воспитывает потребителя, в лучшем случае всезнайку-энциклопедиста и теряет  при этом творца и деятеля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736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Приходят учиться дети, не обладающие навыками общения и практически не социализированные, т.е. плохо понимающие, как вести себя в коллективе сверстников, какие существуют нормы поведения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40736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Формирование личности ученика и продвижение его в развитии осуществляется не тогда, когда он воспринимает готовое знание, а в процессе его собственной деятельности, направленной на «открытие» им нового знания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52640" y="30492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ndara"/>
              </a:rPr>
              <a:t>Качества личности    </a:t>
            </a:r>
            <a:endParaRPr b="0" lang="en-US" sz="3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360" y="2437920"/>
            <a:ext cx="740700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самостоятельность в принятии решений и выборе;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умение отвечать за свои решения;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способность нести ответственность за себя и за близких;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готовность действовать в нестандартных ситуациях;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готовность к постоянной переподготовке.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ndara"/>
              </a:rPr>
              <a:t>Задачи образования</a:t>
            </a:r>
            <a:endParaRPr b="0" lang="en-US" sz="3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71560" y="2674440"/>
            <a:ext cx="740736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Важнейшей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Candara"/>
              </a:rPr>
              <a:t>задачей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 современной системы образования является формирование совокупности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Candara"/>
              </a:rPr>
              <a:t>«универсальных учебных действий»</a:t>
            </a:r>
            <a:r>
              <a:rPr b="1" lang="ru-RU" sz="21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обеспечивающих </a:t>
            </a:r>
            <a:r>
              <a:rPr b="1" lang="ru-RU" sz="2100" spc="-1" strike="noStrike">
                <a:solidFill>
                  <a:srgbClr val="000000"/>
                </a:solidFill>
                <a:latin typeface="Candara"/>
              </a:rPr>
              <a:t>«умение учиться», 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способность личности к саморазвитию и самосовершенствованию путем сознательного и активного присвоения нового социального опыта, а не только освоение учащимися конкретных предметных знаний и навыков в рамках отдельных дисциплин.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ndara"/>
              </a:rPr>
              <a:t>Универсальные учебные действия</a:t>
            </a:r>
            <a:endParaRPr b="0" lang="en-US" sz="3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71560" y="2674440"/>
            <a:ext cx="740736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В широком значении </a:t>
            </a: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термин «универсальные учебные действия»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означает умение учиться,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т.е. способность субъекта к саморазвитию и самосовершенствованию путем сознательного и активного присвоения нового социального опыта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В более узком (собственно психологическом значении) этот термин можно определить как </a:t>
            </a: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совокупность способов действия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учащегося (а также связанных с ними навыков учебной работы), </a:t>
            </a: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обеспечивающих его способность к самостоятельному усвоению новых знаний и умений, включая организацию этого процесса. 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12:30:32Z</dcterms:created>
  <dc:creator>ssn</dc:creator>
  <dc:description/>
  <dc:language>en-US</dc:language>
  <cp:lastModifiedBy>ssn</cp:lastModifiedBy>
  <dcterms:modified xsi:type="dcterms:W3CDTF">2014-03-31T05:27:14Z</dcterms:modified>
  <cp:revision>9</cp:revision>
  <dc:subject/>
  <dc:title>Педагогический  совет  «Формирование УУД в рамках реализации ФГОС  в НОО и ООО».</dc:title>
</cp:coreProperties>
</file>