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69D9-679D-4210-9D57-37A6F334A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8D84-6578-4AEA-8D28-F57BA9917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FBB9-C565-4B13-A399-4381CB1B3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CEC0-9E32-410B-80EE-660257FEC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C7AF-7925-4C09-92D2-ECA12D0D0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433C-B6C7-470D-A580-841BAA163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5F6A-75FB-4E44-8082-7E394A880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B82D-7D65-4BBE-ADFB-571612715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D38F-9237-45F4-8216-55AFFD491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FA60-1C29-4132-BD43-884C5AFE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D89B-9BE3-4DDC-B271-6C7B32A5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7E54-48DE-4561-AAC7-F47C2EB0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B8DE1-EF76-417E-BD35-4D992FF57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Формирование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ичностных УУ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Личностные УУД включают  готовность и способность учащихся к саморазвитию и характеризуют сформированность мотивации к обучению и познанию, индивидуально-личностные позиции,    социальные компетенции,  личностные качества учащих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5. Методика диагностики мотивации учения и эмоционального отношения к учению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(Ч.Д. Спилбергер, модификация А.Д. Андреевой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етодика позволяет определить уровни познавательной активности, тревожности, гнев, мотивации достижения как актуальных состояний и как свойств лич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На втором этапе – исследование личностного блока, использовались следующие методики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етодика «Шкала Я-концепция», авторы (Е. Пирс, Д. Харрис,), переработанная А.М. Прихожан,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зволяет оценить как общий уровень самоотношения подростка, так и оценить его отношение к себе в следующих сферах: поведение, интеллект, ситуация в школе, внешность, тревожность, общение, удовлетворенность жизненной ситуацией, положение в семье, уверенность в себе. Методика содержит и шкалу социальной желательности, позволяющую судить об искренности учащегося, его стремлении показать себя в наиболее благоприятном свет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Диагностика нравственной самооценки, позволяющая определить её уровень у пятиклассников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трудники лаборатории воспитания нравственно-этической культуры ГосНИИ семьи и воспитания РАО следуют идеям, развернутым в рамках научной школы А.И. Шемшуриной: разработкой теоретических и методических материалов по проблеме формирования нравственности и этической культуры лич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Методика изучения отношения к учебным предметам (Г.Н. Казанцев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етодика изучения отношения к учебным предметам, выяснение того, почему ученик вообще учится, какие мотивы преобладают, на основе чего делается соответствующий вывод о ведущих мотивах, лежащих в основе положительного или отрицательного отношения к отдельным предметам и к учению в це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3045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адания на выявление нормы взаимопомощи в конфликте с личными интерес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адания на выявление выбора моральных и конвенциональных нор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 Моральные дилемм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. Диагностика нравственной мотив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Исследование коммуникативного бл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етодика «Кто прав?»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ь методики диагностика уровня сформированности коммуникации как интера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  Методика «Совместное рисование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исследует  формирование коммуникативных действий по согласованию усилий в процессе организации и осуществления сотрудничества (кооперац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   Оценка отношений подростка с классо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озволяет выявить три возможных «типа» воспри­ятия индивидом группы. При этом в качестве показателя типа восприятия выступает роль группы в индивидуальной деятельности воспринимающ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Личностная тревож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д личностной тревожностью понимается устойчивая индивидуальная характеристика, отражающая предрасположенность учащегося к тревоге и предполагающая наличие у него тенденции воспринимать многие ситуации как угрожающие, отвечая на каждую из них определенной реакци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ысокий уровень тревож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казали 9% учащихся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в 5в-4в у 20%, в 5а-4а у 12%, в 5б-4б у 4%, в 5г-4г такого показателя не выявлено).  Это свидетельствует о том, что дети не могут найти свое место среди сверстников, не уверены в своих знаниях, часто переживают по этому поводу и чувствуют себя некомфортно в ситуации перехода в среднюю школу.  В основном, это дети с задержкой разви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редний уровень тревож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полезная тревожность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испытывают 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4%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учащихся, свидетельствует о нормальном восприятии обучения, без лишнего волнения, но и без лишнего попустительства по отношению к учеб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изкий уровень тревож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казали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7%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чащихся. Для некоторой части выделенной группы детей необходимо пробуждение активности. Для всех детей необходимым является повышение мотивации учения, развитие чувства ответственности в решении познавательных задач в изучении учебного матери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снование исследования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связи с переходом на новые стандарты обучения формирование УУД направлено на выявление индивидуальных особенностей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ровень тревожности у выпускников начальной школы  за последние 5 лет имеет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ложительную динамику формирован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снижение высокого уровня тревожност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по годам, начиная с 2008-2009 по 2013-2014 учебный год (10% - 2% - 15%- 11% - 9%).  Это положительная динам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Увеличение числа учащихся с низким уровнем личностной тревож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ледует рассматривать как положительный фактор (14% - 32% - 31% - 41% - 57%). Но следует предостеречь от следующего. Личностная тревожность на данном этапе предполагает,  что учащихся больше всего волнует их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татус  среди сверстников,  а не успешность в учебной деятельности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хотя познавательная активность сохраняется хорошая. На данном этапе с учащимися следует вести работу по улучшению показателей в учеб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Гистограмма динамики уровня личностной тревожности в сравнении по годам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008-201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0" y="0"/>
          <a:ext cx="5248440" cy="220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248440" cy="22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тепени самооценки и притязаний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Используемая методика Т.Дембо и С.Я. Рубинштейн (модификация А.М. Прихожан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озволила выявить отдельных школьников и групп, требующих особого внимания со стороны педагогов и психологов, входящих в категорию «риска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Уровневое выделение самооцен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амая высокая самооценка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в 5г (4г) - 52%, в 5б (4б) - 46% класса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в 5а – 19%, в 5в – 18%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амая низкая самооценка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16% - в 5в (4в) классе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ровневое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ыделение притяз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ритязания в норм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у 59% учащихся (76% - в 5в классе, по 52-54% - в 5г, 5а, 5б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чень высокие притязания у третьей части выпускнико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33%  (в 5г -48%, в 5а, 5б – по 35%, в 5в – 16%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ифференциация между самооценкой и притязаниям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Умеренная степень дифференцированности между самооценкой и притязанием позволяет сделать вывод, что обследуемая личность является гармоничной и способна успешно усваивать учебную программу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Если есть существенные расхождения между самооценкой и притязаниями, то этот ученик считается непродуктивной личностью и имеет свои особенности личностного развития, которые следует учитывать при обучении в 5 класс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Трудности в эмоционально-личностной сфе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Дети, имеющие непродуктивную самооценку, будут испытывать трудности в эмоционально-личностной сфере, затруднения в целеполагании и достижении поставленных целей, проблемы в общен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Чрезмерно высокий уровень притязаний говорит о том, что ребенок не может адекватно оценивать окружающую действительность и свои возможности, это может вызвать трудности в формировании мотивации успеха и достиж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Рекомендации учителям среднего бло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пособствовать развитию продуктивной мотивации, позитивное отношение к учебе (особенно в 5в – 4в классе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интересовывать учащихся особенностями учебного материала, вытесняя показатель «школьной скуки» в 5в – 4в (24%), в 5б-4б (19%), в 5а -4а (7%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зъяснять постановку учебных задач для усвоения учащимися учебного материал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должить учителям среднего звена в работе с учащимися закреплять их познавательную активность (75% - с высоким уровнем)  и заинтересовывать детей возможностями своего предмет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екомендации учителям среднего бло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креплять положительную динамику по снижению школьной тревожности с 2008-2009 по 2012- 2013 учебный год (10% - 2% - 15%- 11% - 9%)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нижать школьную тревожность (5% по параллели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должить работу по формированию самооценки у учащихся, для избежания трудностей в эмоционально-личностной сфере, затруднений в целеполагании и достижении поставленных целей, проблем в общен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Цель исследов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зучение состояния и динамики образовательного процесса и психологического здоровья учащихся на момент окончания начальной школы и при переходе в среднее зве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оставной и неотъемлемой частью « Я – КОНЦЕПЦИИ» является самооц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амооценка – оценка личностью самого себя, своей внешности, места среди других людей, своих качеств и возможностей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мооценка является системообразующим ядром индивидуальности личности, которая во многом определяет жизненные позиции человека, уровень его притязаний, всю систему оцен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мооценка влияет на формирование стиля поведения и жизнедеятельность чело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амооценка во многом обуславливает динамику и направленность развития учащего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оказатель уровня   самоотношения к своему повед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ажным показателем адаптации детей к обучению в среднем звене является показатель уровня   самоотношения к своему поведению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 этом возрасте дети, стремясь к взрослой жизни, стараются подражать взрослым, и могут смотреть на себя глазами взрослого человека.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оответствие требованиям взрослых рассматривается подростком как положительная черта: в 5б – 69%, в 5а – 62%, в 5г – 60%, в 5в – 54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2437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Диаграмма распределения уровня самооценки поведения пятикласс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0" y="0"/>
          <a:ext cx="5315040" cy="232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315040" cy="23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0" y="0"/>
          <a:ext cx="5315040" cy="232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5315040" cy="23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1. Самооценка пове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не соответствует требованиям взрослы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у 5% учащихся, из них в 5в 12%, 5б 8%. В 5а, 5г таких показателей не выявлен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реалистичное отношение к своему поведени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у 17% учащихся: в 5в – 23%, 5г – 19%, 5б – 15%, 5а – 12%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оответствует требованиям взрослых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у 78% учащихс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в 5а – 88%, в 5г – 81%, в 5в – 77%, в 5в – 65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«Несоответствие требованиям взрослого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Таким образом, т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лько 5% учащихся показали «несоответствие требованиям взрослого». Возможно, эти дети, выполняя  требования взрослых, переживают, что ведут себя как маленькие.  Возможно,  они считают, что ведут себя плохо и «этим довольны». Эти дети нуждаются в коррекции личностного разви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амооценка интеллекта, 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школьной успешност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амооценку школьной успешност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целесообразно сопоставить с уровнем реальной успешности.  По самооценке интеллекта, школьной успешности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6%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ятиклассников считают себя успешными в учебной деятельности на высоком уров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3.Оценка ситуации в шко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9% учащихс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показал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средний уровен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то есть нейтральное отношение к школ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% учащихс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оценивают школьную ситуацию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как неблагополучную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Школа вызывает у этих детей неприязнь, тревогу, скуку (в 5в – 15%, в 5а и 5б по 4%, в 5г – таких показателей не выявле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5% учащихся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озитивно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воспринимают школьную действитель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собенности «Я-концепци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      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Если человек обладает непривлекательной внешностью, физическими недостатками, является социально неадекватным (даже если ему это только кажется), сопровождающие его при любом взаимодействии с социальной средой, в этом случае на пути развития позитивной           «Я- концепции» могут возникнуть серьезные затруднения. Даже эмоционально нейтральные на первый взгляд характеристики собственной личности обычно содержат в себе открытую оценку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Именно в 5 классе младшие подростки начинают обращать внимание на свою внешность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4.Самооценка внешности, физической привлекательности, физического развития как свойств, связанных с популярностью среди сверст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9% учащихся пятиклассников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ысоко оценивает свою внешность и привлекательнос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7% - занимают среднюю, нейтральную позици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% учащихся по параллели 5-х классов показали низкую самооценку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Низкая (а нередко и средняя) самооценка внешности — фактор риска, она может быть причиной низкой общей самооценки подростка, его общей неудовлетворенности собой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5в -12%, в 5а – 4%; в 5б и в5г таких показателей не выделено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6.Самооценка популярности среди сверстников, умение общатьс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Большую роль в этом возрасте играет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опулярность среди сверстников, умение общатьс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 5% учащихся низкая самооценк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популярности среди сверстников, свидетельствует о неумении общаться, о неудовлетворенности потребности в общении у подростка:  по 8% - в 5б и 5в классах, 4% в 5а класс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0% учащихся дают высокую самооцен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% - показатели среднего уров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Задачи исследовани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пределение уровня интеллектуального и эмоционально-личностного развития учащихся 5-х клас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ыявление учащихся, испытывающих трудности на этапе окончания начальной школы и начало обучения в средней шко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ыработка рекомендаций по улучшению качества образования и сохранению психологического здоровья  школьников для участников образовательного процес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7.Счастье и удовлетворенност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оложительн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казатели «счастье и удовлетворенность» - 93% учащихся по параллели в целом не испытывают неудобств в жизни, полное ощущение удовлетворенности (в 5а и в 5б на 100%, в 5б на 92%, в 5в на 81%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чащиеся 5в класса (15%) реалистично относятся к жизненным ситуациям, в 5б (8%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ереживание неудовлетворенности в 5в классе (4%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8.Положение в семь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 самооценку ребенка большое влияние оказывает  его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оложение в семь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5% учащихся имеют высокую степень удовлетворенности в семь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% учащихся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5в – 8%, в 5б – 4%)  переживают из-за неудовлетворенности своим положением в семье, входят в «группу рис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9. Уверенность в себ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веренность в себе на реалистичном уровне показывают 53% учащих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чти каждый второй пятиклассник (45%) испытывает чрезмерно высокий уровень уверенности в себе, что, скорее всего, является мерой самозащиты. Эти дети тоже нуждаются в поддержке, психологической помощи: в 5б – 58%, в 5а – 46%, в 5г – 42%, в 5в – 34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Личное участие, поддержка уча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На основании выделенных показателей личностного блока следует их неоднозначное рассмотрени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чащиеся дали искреннюю оцен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лассным руководителям среднего звена и учителям-предметникам, наряду с развитием, поощрением высоких показателей ребенка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следует оказывать и личное участие, поддержку учащимся, испытывающим чувство неудовлетворен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 чем именно необходима поддерж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 собственной самооценке (5% с низкой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школьной успешности (5% с низкой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ценке ситуации в школе (6% неблагополучная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амооценке внешности, физической привлекательности, физического развития как свойств, связанных с популярностью среди сверстников (4% с низкой и 79% с высокой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ревожности и эмоциональным благополучием (3% высокий и 22% средний уровни тревожности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 чем именно необходима поддерж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амооценке популярности среди сверстников, умении общаться (5% низкая, 70% высокая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частье и удовлетворенность (7% переживание неудовлетворенности, и реалистичное отношение к жизненным ситуациям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ожение в семье (3% неудовлетворены своим положением в семье и 12% со средней степенью удовлетворенности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веренность в себе (2% неуверенности в себе, 45% чрезмерно высокий уровень уверенности в себе (компенсаторно-защитный характер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етодика Казанцево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«Отношение к предметам» дает ответ на вопро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какова мотивация деятельности пятикласснико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9% пятиклассников заинтересованы в учебной деяте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3% имеют социальную и внешнюю мотивацию, стремление к общению, проявив себя среди сверст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% учащихся ожидают одобрения от окружающих (11% из 5б, 8% из 5в, 4% из 5г классов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2% (7% из 5в класса) учащихся вообще не определились, для чего они ходят в школу, зачем надо учи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Задание на выявление нормы взаимопомощи в конфликте с личными интересам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Уровневые показа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% 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решение проблемы в пользу собственных интересов без учета интересов партнер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35% в 5б классе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% 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стремление к реализации собственных интересов с учетом интересов други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54% в 5г, 35% в 5б, по 27% в 5а и 5в классах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4% 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отказ от собственных интересов в пользу интересов других, нуждающихся в помощ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65% в 5в, 54% в 5а классах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Задание на выявление выбора моральных и конвенциональных норм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9% - направленность на выполнение моральных нор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1% - направленность на выполнение конвенциональных нор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Методика «Моральные дилеммы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% (каждый четвертый пятиклассник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е выделяют или частично выделяют моральное содержание поступков персонажей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нуждаются в коррекции личностного разви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9%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ыделяют моральную сторону события, поступ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6%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ыделяю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оральную сторону события, поступка и дают оценку причины негативных эмоций героев, понимают нормы взаимопомощ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роки проведения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Первый этап исследовани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апрель – май 2013 года (4 классы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Второй этап исследовани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октябрь-ноябрь 2013 года (5 классы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иагностика проходила в групповой форм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В исследовании приняли участие 104 учащих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Уровни решения моральной дилеммы (вопрос №3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%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не выделяют морального содержания ситуации (в 5б – 23%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%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отсутствует ориентация на выполнение нормы (в 5в и 5г – по 58%, в 5а – 8%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4%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ориентация на норму взаимопомощи как основание поступка (в 5а – 92%, в 5в и 5г – по 42%, в 5б – 38%), готовы предложить свои услуги, отказавшись от собственных интере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Выводы по интеллектуальным УУД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ятиклассники  имеют все данные к быстрой адаптации к обучению в средней школе. Важным показателем адаптации детей к обучению в среднем звене является показатель уровня  самоотношения к своему поведению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ответствие требованиям взрослых рассматривается подростком как положительная черта: в 5б – 69%, в 5а – 62%, в 5г – 60%, в 5в – 54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Учащиеся адекватно оценивает своё отношение к учебной деятельности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озитивное отношение к учению у 51% учащихся (в5г-4г у 88%, в 5б-4б у   50%, в 5а-4а у 35%, в 5в-4в у 12%). Это положительный показат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Выводы по интеллектуальным УУ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Следует обратить внимание на личностную тревожность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Высокий  уровень тревожности показали по параллели 9% учащихс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в 5в-4в у 20%, в 5а-4а у 12%, в 5б-4б у 4%, в 5г-4г такого показателя не выявлено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 самооценке интеллекта, школьной успешност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76% пятиклассников считают себя успешными в учебной деятельности на высоком уровне. Это тоже положительный фактор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Выводы по интеллектуальным УУ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По оценке  ситуации в школ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9% учащихся показали средний уровень, то есть нейтральное отношение к школе. 65% учащихся позитивно воспринимают школьную действи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9% пятиклассников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высоко оценивает свою внешность и привлекательность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%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занимают среднюю, нейтральную пози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ольшу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роль в этом возрасте играет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популярность среди сверстников, умение общатьс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70 учащихся дают высокую самооценку.    25% - показатели среднего уров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Выводы по интеллектуальным УУ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5% учащихся имеют высокую степень удовлетворенности в семье. Положительный факт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веренность в себе на реалистичном уровне показывают 53% учащих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6%  учащихся имеют стремление к реализации собственных интересов с учетом интересов других (54% в 5г, 35% в 5б, по 27% в 5а и 5в классах), 44% - отказ от собственных интересов в пользу интересов других, нуждающихся в помощи (65% в 5в, 54% в 5а классах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9% выделяют моральную сторону события, поступка. 36%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ыделяют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оральную сторону события, поступка и дают оценку причины негативных эмоций героев, понимают нормы взаимопомощ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Выводы по интеллектуальным УУ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 40% отсутствует ориентация на выполнение нормы (в 5в и 5г – по 58%, в 5а – 8%). 54% - ориентация на норму взаимопомощи как основание поступка (в 5а – 92%, в 5в и 5г – по 42%, в 5б – 38%), готовы предложить свои услуги, отказавшись от собственных интере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Понимают разрешение  взаимоотношений со сверстниками и с окружающ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Дети  считают себя успешными  в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В целом действия учащихся  направлены на выполнение моральных  норм поведения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коменд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Каждый четвертый ученик нуждается в коррекции личностного развития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редний уровень с несколько сниженной познавательной мотивацией у 30% учащихся (в 5а - у 50%, 5в - у 44%, в 5б- у 23%, 5г- у 4%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Дети с личностной тревожностью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е могут найти свое место среди сверстников, не уверены в своих знаниях, часто переживают по этому поводу и чувствуют себя некомфортно в ситуации перехода в среднюю школу.  Нужно особое внимание уделить детям с задержкой разви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коменд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Нужно помнить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% учащихся  оценивают школьную ситуацию как неблагополучну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Школа вызывает у этих детей неприязнь, тревогу, скуку (в 5в – 15%, в 5а и 5б по 4%, в 5г – таких показателей не выявлено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коменд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Учащиеся  способны реально оценить себя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% учащихся по параллели 5-х классов показали низкую самооценку.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Низкая (а нередко и средняя) самооценка внешности — фактор риска, она может быть причиной низкой общей самооценки подростка, его общей неудовлетворенности собой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5в -12%, в 5а – 4%; в 5б и в5г таких оценок не выделено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У 5% учащихся низкая самооценк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популярности среди сверстников, свидетельствует о неумении общаться, о неудовлетворенности потребности в общении у подростка:   по 8% - в 5б и 5в классах, 4% в 5а классе. Об этом тоже нужно помн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коменд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% учащихся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5в – 8%, в 5б – 4%)  переживают из-за неудовлетворенности своим положением в семье, входят в «группу риска». Это нельзя забы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чти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каждый второй пятиклассник (45%) испытывает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чрезмерно высокий уровень уверенности в себ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что, скорее всего, является мерой самозащиты. Эти дети тоже нуждаются в поддержке, психологической помощи: в 5б – 58%, в 5а – 46%, в 5г – 42%, в 5в – 34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иагностический инструментарий, используемый для обследования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 первом этапе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– исследование  интеллектуального блока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нтеллектуальный тест «Прогрессивные матрицы» Равена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зволяет определить уровень визуального интеллекта обследуемых и уровень сформированности произвольной регуляции психических функций в част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коменд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209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Решение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облемы (20%) в пользу собственных интересов без учета интересов партнера (35% в 5б классе). Над этим нужно работ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25%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каждый четвертый пятиклассник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е выделяют или частично выделяют моральное содержание поступков персонажей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нуждаются в коррекции личностного разви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коменд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6%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е выделяют морального содержания ситуации (в 5б – 23%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Некоторые  ждут помощи и поддержки от взросл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ледует особо относиться к детям, которые негативно относятся к учебной деятельности, это в основном дети со слабыми интеллектуальными способност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Это вовсе не просто – дружба с детьм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«Как важно, чтобы в миг той нем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за сильного тебя хоть кто-то приня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от широты своей душевной прид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тебе значенье большее, чем ты!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Евгений  Евтушенк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 поисках своего «Я»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«Как будто там отчаянно тоску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и  по тебе оторвано току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твое непознанное «Я»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Евгений Евтушенк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дагог-психолог: Терентьева Т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рупповой интеллектуальный тест (ГИТ)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адаптированный М. К, Акимовой, Е.М. Борисов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ест выявляет, насколько ребенок к моменту исследования овладел предлагаемыми ему в заданиях теста словами и понятиями, а также умениями выполнять с ними некоторые логические действия; все это характеризует уровень умственного развития испытуемого, существенный для успешного прохождения школьного кур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 Групповой тест Тулуз – Пьер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зволяет определить свойства внимания и психомоторного темпа, оценивает точность и надежность переработки информации, волевую саморегуляцию, работоспособность и её динамику во време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. Методика изучения самооценки и притязан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Т. Дембо-Рубинштейн (модификация А.М. Прихожан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Эта методика позволяет качественно и количественно определить уровень притязаний, высоту самооценки, расхождение между уровнем притязаний и самооценкой; устойчивость самооцен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o©</cp:lastModifiedBy>
  <dcterms:modified xsi:type="dcterms:W3CDTF">2014-03-31T02:23:43Z</dcterms:modified>
  <cp:revision>1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