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gif" ContentType="image/gif"/>
  <Override PartName="/ppt/media/image10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ED6-29FF-4AF6-9961-CB5CD416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1F8-9AB1-4963-BB84-4134E296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7CC9A-CBAD-44EF-BE8F-4E279A22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465A5-C2CA-4EC3-B2B2-A6DBE457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8596C-214E-42FB-9916-6B7AF6EF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755D2-C955-424D-AC35-2009D5E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27B01-0A81-484B-BCD4-E9DCEBD4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434CE-21B8-4408-A5A1-6831BE6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2C1E7-0B2B-4967-A143-B2DF48D5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84045-8C11-425C-AA10-77BF8669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4BF90-94AB-42D7-89C5-E0B6EF78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F64-541F-4136-B846-697113BA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E5E-03EB-4C4C-82A3-4759F18D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6894-4A76-4D63-A5C4-9D178795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E28F-42A3-46F9-BE42-020DB0D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B22A-D9E3-4ECF-9A3F-1467058F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0DA2-6414-49AA-BF89-C76FD23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1FF3-0E6C-42A0-9CC7-BB9584FF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2634-117E-4751-8A28-0E38781E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0694-1909-44DC-A60D-E849F6A4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BDF-FB64-4BB9-90D9-D9DDB078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95A4-C170-4B27-8AB5-A38ECEBF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6658-7100-4715-BBE6-F9BFC64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D331-18E2-45FB-BB81-610133DB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569B-ADB1-47E6-8635-4BCB547C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3344-BDB4-4E41-97F1-32BC9B0D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B501-39AD-4CA9-B9B1-E356D47F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4A2E-98E9-436F-ADD7-3E7CFC66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49B5-D425-4199-9D27-BACFD57C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57AB-E98F-4F4C-BDEF-F080874C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A0CB-D733-4DD1-9210-B5F475B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768-649D-4C25-A688-A4CEB021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4901-532D-42A6-AEEA-02B0AB2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3CA4-F4E8-4811-B24C-C2166115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355E-8FBB-4CAA-9A72-E78B8E2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F0C4-33E4-4BC3-A5B7-FD97816F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8425-74F7-48A4-9ABA-28330651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EAA8-1B29-4CCF-A2C0-DE895270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7709-1F88-4393-80FB-E2D35864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D017-A466-4A93-9EF4-3A0DD90A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9563-8E8C-4D4C-A5D8-74B47DCA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DE588-CEB1-4252-AEF1-39E50EE8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C88-0D1C-4082-92B9-70F5DC4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1486-432C-4AB2-8264-4C001D14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16E8C-8065-4680-B1D4-2AC91F4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57F2-5CEF-4002-BD82-3D8C57FF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56E1-79E9-4C02-8558-3CAEA3E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1092-F6F2-4F88-895A-D0F07D8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2F6B-295B-4E9E-9F74-BD6579A1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CCAF-0B78-490E-91B5-11866888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045C-A41D-4957-B901-FA507AD2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C5421-B168-4F95-9C51-CE35823A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1ACD6-61FC-47AA-A084-F10E73B3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592-60CD-48E4-B8F5-4A398E34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34DF-753C-4ECB-AD94-6638DC24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AE9F-B24B-46DB-AC80-9AEBCD5D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68FD0-150F-4C4B-A9E2-C9B52580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E922-1223-4164-8F3F-C016122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67DE7-1E77-4B05-81A5-3B2E5FE2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CBAD0-E5EB-41E9-8E04-1F235A0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1D60-6B3E-4821-B88E-CFFAAB6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9483-1D70-449A-B320-A4B6787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325A-FB74-4F15-8F8E-CF4B6A49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D426-8599-4EB8-9F50-1E801549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5F4-B837-4993-BC83-8F81514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46576-D2AF-41BE-9A0F-E1640DAE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0EE9-3758-4FE2-9CC2-CC78DC60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BE1F-BD67-40C1-B880-348FCA52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F8F90-410E-4A9B-A7B5-BF5AE5D2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8699-28D4-4CB4-A2E6-2C11BF66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D854D-F622-4851-9979-985F2A2B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A0848-8DAE-43AA-8942-5132A7C1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6CA73-8CC2-44BF-BC0A-5934CBA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FD6CC-D9E4-4455-9324-C4C7093C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4EC3D-8C0F-4547-8F28-CF83CC8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23B-E19C-49A8-AF05-6A276A9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4E144-B139-4649-9B4D-845924D0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4DA3-605D-4DFC-A99A-39C511EB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FB0D4-C147-4F4D-A621-685B7994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F2F18-B56B-4074-A0C6-C46926A3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745F1-8C41-4A23-8935-D1AF3EC0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81078-966C-4BE8-82FE-BF71B25C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CA36F-6B4B-4E3B-BABE-6B0B1F1D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0FCEB-2F4A-4C96-A958-AB7C2F20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61B09-E66E-4D9C-84AE-9E3CEFBF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CE367-CEF3-4F95-B5F7-931EACC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A10-46B5-4E20-9BA8-DFB416DD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53BC-16E1-48C3-8E16-7F1BC4D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2CF5F-FB50-417E-B788-F63D8412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641B7-4C9B-4F4C-8306-0D1BEC1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4987F-2964-48CB-9C00-AEFA611B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A073-4F0B-45C0-B8BE-FEF59E08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F52A1-1A7D-44D5-8DE3-24673810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57342-B3DA-4481-8BE7-06DB478B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E4C1E-73F2-43F9-B780-80F9FDA8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0033E-E3F5-4285-A71C-708660A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4ADB5-BB18-4443-90AB-B6B8C61D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446-52DF-4F85-953C-687CD38E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D7C0A-5EF1-46FC-846D-90F35998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8248B-259D-46D9-B879-5BC735F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A94F9-8CBE-436B-8C79-EFB738D6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8E9EA-171C-4A9D-B36B-9C06469B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43117-B518-4EE2-B6FC-435B9B2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510E-D9BE-4448-B6DC-816DBE6C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10066-1F47-4C00-872B-329765A3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4FFF7-7CB5-46F9-97BD-1C3CD432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F65E5-0DC8-4F1B-A943-1C60C81A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5EB7-D5AF-4022-96A2-41FD7C62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37AD-AF63-4201-892F-FC38C00718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DFC-00D1-46FD-BB1F-8CA9AEDF6E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9DDB-11F4-4F56-97C4-E12DA3E232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54F2-730A-4795-A50C-55F172F9A8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AF1-0C40-4F2D-9128-FF1FB39DD1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A145-6AC4-4A94-920D-6B6F3D0EF5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FCDE-B65F-4487-87F8-0C07DA6A20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98C-290E-4065-B3E2-73DE467742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106F-4271-4625-BECE-7B2FED6D3CC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89040" y="237960"/>
            <a:ext cx="7742160" cy="1206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3640" y="1052280"/>
            <a:ext cx="8458200" cy="48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buClr>
                <a:srgbClr val="7c4b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523227"/>
                </a:solidFill>
                <a:latin typeface="Franklin Gothic Book"/>
              </a:rPr>
              <a:t>Целеполаг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c4b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Планиров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c4b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Прогнозиров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c4b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Контрол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c4b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Коррекц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c4b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Оцен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7c4b3b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Волевая саморегуляц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686800" cy="1206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23227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Franklin Gothic Book"/>
              </a:rPr>
              <a:t>Обвести шабло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523227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Franklin Gothic Book"/>
              </a:rPr>
              <a:t>Вырезать круги и разделить их на ча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523227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Franklin Gothic Book"/>
              </a:rPr>
              <a:t>Разложить фигуры по образц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523227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Franklin Gothic Book"/>
              </a:rPr>
              <a:t>Приклеить на открыт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523227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Franklin Gothic Book"/>
              </a:rPr>
              <a:t>Украсить работ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214800" cy="3214440"/>
          </a:xfrm>
          <a:prstGeom prst="rect">
            <a:avLst/>
          </a:prstGeom>
          <a:ln cap="sq" w="38160">
            <a:solidFill>
              <a:srgbClr val="c87d0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85840" y="201600"/>
            <a:ext cx="8686800" cy="1206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57120" y="1213920"/>
            <a:ext cx="8686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нужна помощ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умею, но не уверен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я умею с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2214720" y="3244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c4b3b"/>
                </a:solidFill>
                <a:latin typeface="Franklin Gothic Medium"/>
              </a:rPr>
              <a:t>«СМАЙ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5"/>
          <p:cNvSpPr/>
          <p:nvPr/>
        </p:nvSpPr>
        <p:spPr>
          <a:xfrm>
            <a:off x="357120" y="135720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6"/>
          <p:cNvSpPr/>
          <p:nvPr/>
        </p:nvSpPr>
        <p:spPr>
          <a:xfrm>
            <a:off x="357120" y="1928880"/>
            <a:ext cx="500040" cy="500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7"/>
          <p:cNvSpPr/>
          <p:nvPr/>
        </p:nvSpPr>
        <p:spPr>
          <a:xfrm>
            <a:off x="357120" y="2500200"/>
            <a:ext cx="500040" cy="50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500040" y="5500800"/>
            <a:ext cx="571680" cy="571320"/>
          </a:xfrm>
          <a:prstGeom prst="rect">
            <a:avLst/>
          </a:prstGeom>
          <a:ln cap="sq" w="38160">
            <a:solidFill>
              <a:srgbClr val="c87d0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500040" y="4214880"/>
            <a:ext cx="547560" cy="547560"/>
          </a:xfrm>
          <a:prstGeom prst="rect">
            <a:avLst/>
          </a:prstGeom>
          <a:ln cap="sq" w="38160">
            <a:solidFill>
              <a:srgbClr val="c87d0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2" name="Picture 4" descr=""/>
          <p:cNvPicPr/>
          <p:nvPr/>
        </p:nvPicPr>
        <p:blipFill>
          <a:blip r:embed="rId4"/>
          <a:srcRect l="0" t="0" r="13403" b="13451"/>
          <a:stretch/>
        </p:blipFill>
        <p:spPr>
          <a:xfrm>
            <a:off x="500040" y="4929120"/>
            <a:ext cx="563760" cy="441360"/>
          </a:xfrm>
          <a:prstGeom prst="rect">
            <a:avLst/>
          </a:prstGeom>
          <a:ln cap="sq" w="38160">
            <a:solidFill>
              <a:srgbClr val="c87d0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Прямоугольник 11"/>
          <p:cNvSpPr/>
          <p:nvPr/>
        </p:nvSpPr>
        <p:spPr>
          <a:xfrm>
            <a:off x="1785960" y="4000680"/>
            <a:ext cx="52149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457200" y="4143240"/>
            <a:ext cx="8686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я доволен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было трудно, но я спра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не нужна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6:40:29Z</dcterms:created>
  <dc:creator>son</dc:creator>
  <dc:description/>
  <dc:language>en-US</dc:language>
  <cp:lastModifiedBy>teach</cp:lastModifiedBy>
  <dcterms:modified xsi:type="dcterms:W3CDTF">2014-03-31T05:18:38Z</dcterms:modified>
  <cp:revision>19</cp:revision>
  <dc:subject/>
  <dc:title>РЕГУЛЯТИВНЫЕ УУД</dc:title>
</cp:coreProperties>
</file>