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3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8.gif" ContentType="image/gif"/>
  <Override PartName="/ppt/media/image14.jpeg" ContentType="image/jpeg"/>
  <Override PartName="/ppt/media/image41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8.jpeg" ContentType="image/jpeg"/>
  <Override PartName="/ppt/media/image39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1.gif" ContentType="image/gif"/>
  <Override PartName="/ppt/media/image38.jpeg" ContentType="image/jpeg"/>
  <Override PartName="/ppt/media/image36.jpeg" ContentType="image/jpeg"/>
  <Override PartName="/ppt/media/image40.jpeg" ContentType="image/jpeg"/>
  <Override PartName="/ppt/media/image44.png" ContentType="image/png"/>
  <Override PartName="/ppt/media/image43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49.jpeg" ContentType="image/jpeg"/>
  <Override PartName="/ppt/media/image20.jpeg" ContentType="image/jpeg"/>
  <Override PartName="/ppt/media/image45.png" ContentType="image/png"/>
  <Override PartName="/ppt/media/image6.jpeg" ContentType="image/jpeg"/>
  <Override PartName="/ppt/media/image51.jpeg" ContentType="image/jpeg"/>
  <Override PartName="/ppt/media/image52.jpeg" ContentType="image/jpeg"/>
  <Override PartName="/ppt/media/image53.png" ContentType="image/png"/>
  <Override PartName="/ppt/media/image13.png" ContentType="image/png"/>
  <Override PartName="/ppt/media/image54.jpeg" ContentType="image/jpeg"/>
  <Override PartName="/ppt/media/image37.jpeg" ContentType="image/jpeg"/>
  <Override PartName="/ppt/media/image30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47.png" ContentType="image/png"/>
  <Override PartName="/ppt/media/image10.png" ContentType="image/png"/>
  <Override PartName="/ppt/media/image35.jpeg" ContentType="image/jpeg"/>
  <Override PartName="/ppt/media/image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CAC3-DFDB-4D9E-8ECE-2F3A36D311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айте школы  эти документы размещены, где можно ознакомиться с информацией в сравнении за 3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9B73-A3BD-40D0-8D85-578CBFBB42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01.09.2013г. Отменены требования к ОУ по видам –лицеи, гимназии, школы с углубленным изучением отдельных предметов – финансироваться будут образовательные Программы (расширенного, углубленного уровней). Конкурс. Требования к таким програм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8886-EEC8-4A67-BE04-D21A286788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072D-6125-4F80-A940-B364E4C4EA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щен на стенде, на сай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2840-28BC-46E2-8154-C7BB20A365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виды, формы, направления деятельности, процессы в школе регламентируются внутренними локальными актами – Положениями, приказами, правилами, порядком и т.д., которые также как и Устав размещаются для информирования широкого круга обще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F99A-232D-4401-A234-9E2D3B568E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рганами управления относятся общественные органы- Совет школы, педагогический Совет, Совет старшекласс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ABAB-A7BB-4F84-B43F-6E751026AC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-школа сама реализует все учебные предметы по Учебному плану; Сетевая форма- объединение нескольких ОУ : предпрофильная подготовка;. Технология; физкультура и т.ж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ACA6-1F5D-4851-BA0D-5F6AF17ED6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актная система- на 3года. Эффективный контра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E96C-4F23-4FC9-BBFE-7122D09810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тракте отражено, ч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5E42-6097-4CF8-AD51-B477D73F7D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соответствия данным требованиям назначение на должность директора школы состояться не мож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86FE-4CF1-4284-845F-A29A79503B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деятельность – особая деятельность. Дело имеем с подрастающим поколением, с растущим организмом, поэтому есть особые требования и к лицам , которые планируют заняться этой деятельностью- к образовательному цензу, квалификации, уровню под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27DF-732A-4096-8FC2-60E01EACCA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сполнение данной обязан­ности влечет дисциплинарную ответственность по правилам, установленным Трудовым кодексом РФ (далее - ТК РФ), в виде объявления замечания или выговора. В случае неоднократного неисполнения данной обязанности руководитель организации, осуществляющей образовательную деятельность, может приме­нить дисциплинарное взыскание в виде увольнения на основании п. 5 ч. 1 ст. 81 ТК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7736-6B98-422E-A3A0-6B0C4AD667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бразовательной организацией осуществляется в соответствии с законодательством Российской Федерации с учетом особенностей, установленных настоящим Федеральным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F6B7-7296-4096-A300-25E59A7AD5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ы повышения квалификации-1 раз в 3года ( ответственность школы); аттестацию на соответствие занимаемой должности- 1 раз в 5 лет. На квалификационные категории- не раньше. Чем через 3 года после присвоения категории по итогам предыдущей квалиф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D34E-0916-4D93-BAD4-21794C5E21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шательство – право защищено Законом. «Не так учат», Не так задают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8DF2-7CFE-48D5-973A-35367AB4A7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ий Совет, Методический Совет, Собрание трудового коллектива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8CD6-7DDA-4B62-B0A0-FECFBA9C9B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адемические права и свободы, указанные в части 3 настоящей статьи, должны осуществляться с соблюдением прав и свобод других участников образовательных отношений, требований законодательства Российской Федерации, норм профессиональной этики педагогических работников, закрепленных в локальных нормативных актах организации, осуществляющей образовательную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C388-36B9-45F8-BEC1-C7D8BAF5FC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, порядок формирования, срок полномочий и компетенция органов управления образовательной организацией, порядок принятия ими решений и выступления от имени образовательной организации устанавливаются уставом образовательной организации в соответствии с законодательством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A202-2072-4E62-80B8-5A64C418B6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сполнение или ненадлежащее исполнение педагогическими работниками обязанностей, предусмотренных частью 1 настоящей статьи, учитывается при прохождении ими аттес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A264-BDE3-47D7-A3D6-2B126D95FE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Обзоры судебной практики показывают, что аморальным про­ступком, позволяющим уволить педагога, как правило, является рукоприкладство по отношению к обучающимся на работе. Также аморальным может считаться проступок, совершенный вне учеб­ного заведения  (в быту), о котором становится известно из пись­менного  сообщения органов правопоря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D76B-3BC6-43E3-B2F3-7C2F2CDE97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е регулирует данную аттестацию, в результате которой учитывается и образование и стаж работы в должности, и прохождение курсовой подготовки и переподготовки, результаты учебной деятельности обучающихся, внеурочной и внеклассной работы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85FD-7575-4996-92A6-E106716D81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кационные категории – прерогатива Министерства образования Самарск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75B4-B5E8-4ACC-90F0-10229A550E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снова слайд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F13D-BDF7-499D-B7D5-1F346AB737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ях учета мнения обучающихся, родителей (законных представителей) несовершеннолетних обучающихся и педагогических работников по вопросам управления образовательной организацией и при принятии образовательной организацией локальных нормативных актов, затрагивающих их права и законные интересы, по инициативе обучающихся, родителей (законных представителей) несовершеннолетних обучающихся и педагогических работников в образовательной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0D47-6917-422F-8279-13A70C3DFC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07D8-6441-469A-ADE4-B1AF4009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1CFF-A8C9-4D9A-B098-0FC213D2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F7DB-1796-45FE-A7FE-61170B79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2E11-B7BE-49FC-86FF-CE4FC54D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C4CB-31F9-40BB-838E-16E5FBE9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7D79-B8B1-4C7A-A1FB-7DF08C78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2399-252A-461D-8784-C6956E6F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8E35-D2CF-4000-9A44-F52A81D5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CFDE-5C75-43D4-8B84-C8D7EDFA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FE28-7AAF-4977-9276-A6BB9C0F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1E77-4BAB-4364-810E-6906A7F7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5081-6AF0-4EBD-ACEF-5777523E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6F84-A3B8-4617-95D8-DFEED477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18A9-230B-448F-842C-3C638BAF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148D-4D31-4F74-95B2-07BAFBB3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E59C-C024-4001-AA19-17B5EB02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AF58-C810-4934-93D6-9404C432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CDE91-13D9-4F23-ACFF-3BE5BA9D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CB786-97CD-4364-BE1B-BF63BF92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82003-533E-448C-8F88-7120B706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C72B1-B544-4148-81FA-42C833C8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046A4-91D3-4288-BA95-22A40D7A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3FA-AE1C-455D-9DE0-5DC8E957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831F0-2421-44D1-A284-E9FC8FB5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E3378-1495-471F-B2A3-76CF9F0C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850D1-F55A-418A-B73C-11E8CF0C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2A806-7A2A-4C05-B847-920A8B75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97A71-7342-4DC1-ACE5-EDBFD3B1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83BB4-C1C5-4E78-898F-07D2570D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5CD27-4379-4776-8A4F-48D91982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D2D7D-2A96-4C9C-AB6A-F5406A7C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4EAAD-D534-43DE-B46A-FDFA42DD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EF497-C3F1-41A0-A5FB-1CBD43A1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8827-71E5-4EFB-BB0C-4F9EC783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4839B-7938-4036-AC02-6A1C70A6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F35CD-BC68-4DE0-B47C-632AC1BB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AFF4B-7D3A-49B1-BDD8-6A3B0EED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0FA32-27EA-40DC-9B4E-219A7B7A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4E24B-9AA9-46F0-AF9E-3813995F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8C52C-53AF-4632-AD47-500E05C8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F56A3-08B3-4F49-9A7E-9E450EF0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FA583-E0CE-49CF-9F80-945AD1D5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1FD04-B379-4ED9-A2E9-1896DD51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AC7A8-716C-4E68-A588-FF6E095B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B02-AE23-40B2-A000-196A116C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D841C-53CF-4DAE-A751-0FB35C0E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4A02C-513E-41CF-AABF-76EEC2C1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FB2CB-3B05-4446-BE82-C05E7499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2A2C1-95BF-466D-95EF-34B43C8B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84B48-8066-4D3E-8639-90D906D5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CEFE8-7679-4134-B50A-9F848F56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1790B-C0BB-44CD-A9DA-1D566E13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BBEF8-C29B-404D-ADC1-56F516CE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DFA69-70B0-481C-86CC-85097DC1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53678-1A9E-4709-A90B-B7E20A23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AF68-1337-49DF-A7D8-49FE8EC7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B8993-798B-49AB-839C-19F8141C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0D796-6F94-4909-AD4B-0D889723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4B9D8-D327-4E0B-B5E1-02E985BD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A0D54-4330-4BCA-8417-0AF4B626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CF6AB-9D9A-4958-94DA-17E4B1E3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4261A-B39D-4FE5-A18C-D5745B15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D05C7-005A-449E-AE03-574CA81F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59925-74B8-4EBB-8BEE-AEEB53C0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7FEA6-61B6-4966-B560-B2FF2944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99034-1792-4614-BDF6-A5CD90DD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0813-0B02-43C5-ACCA-68FA2F95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DC425-9B85-4DBD-A9B6-A5E4AEAE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03F98-C22F-4BB0-984F-DDC20364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6C0CF-C652-4A77-91B5-B3002ABD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06BA0-4EBC-4B73-A0BD-88FA353C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2716D-21C5-40CA-87B9-66E2F0A9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55BD1-1FE6-4325-BB7A-F79E9F64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0F919-9282-4745-BAC5-0A87318A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46FC7-1FA2-4C90-8317-DC8831EA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60E92-0E60-44FB-84BA-76F4BEBA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74A3D-251D-4B8C-B229-18FCB120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143-5007-46B7-899F-1CED02C7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A3BDE-7B8A-48CD-B485-D0E10872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E0F59-C752-4F1E-A70A-96F9991A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CA35D-6565-40A9-A390-BBAB91EC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CBE7A-CB75-4459-909B-8BEABBFC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759A4-8B30-4DF4-BD3D-89CA2652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1B82-94A9-4423-8EA7-B11F6BDB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9CC4-2829-4697-A91B-83FA97B55AD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284E-D10C-4714-A5C8-4A66BAF1560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BD44-87F8-44A1-A452-1AF1767B498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1F65-A58A-41C0-BB7C-87A5429DA6E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7377-86A2-4036-9373-3596FE1696B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730E-CC2A-45BA-9875-4D8107D0075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2F04-3B03-4C0D-8EE3-D872C4380D0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76360" y="404640"/>
            <a:ext cx="7407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Компетенции образовательной организации,  права, обязанности и ответственность педагогических работников в соответствии с Федеральным  законом         «Об образовании в Российской Федерации» </a:t>
            </a:r>
            <a:br>
              <a:rPr sz="2800"/>
            </a:br>
            <a:br>
              <a:rPr sz="2800"/>
            </a:br>
            <a:r>
              <a:rPr b="0" i="1" lang="ru-RU" sz="1800" spc="-1" strike="noStrike">
                <a:solidFill>
                  <a:srgbClr val="572314"/>
                </a:solidFill>
                <a:latin typeface="Corbel"/>
              </a:rPr>
              <a:t>Бабий Светлана Вениаминовна,         </a:t>
            </a:r>
            <a:br>
              <a:rPr sz="1800"/>
            </a:br>
            <a:r>
              <a:rPr b="0" i="1" lang="ru-RU" sz="1800" spc="-1" strike="noStrike">
                <a:solidFill>
                  <a:srgbClr val="572314"/>
                </a:solidFill>
                <a:latin typeface="Corbel"/>
              </a:rPr>
              <a:t> директор МБУ СОШ № 80 г.о. Тольятти</a:t>
            </a:r>
            <a:br>
              <a:rPr sz="1800"/>
            </a:br>
            <a:br>
              <a:rPr sz="2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Picture 2" descr="http://www.imagroup.ru/public/images/ournewschool.jpg"/>
          <p:cNvPicPr/>
          <p:nvPr/>
        </p:nvPicPr>
        <p:blipFill>
          <a:blip r:embed="rId1"/>
          <a:stretch/>
        </p:blipFill>
        <p:spPr>
          <a:xfrm>
            <a:off x="539640" y="3924360"/>
            <a:ext cx="39243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Выноска-облако 5"/>
          <p:cNvSpPr/>
          <p:nvPr/>
        </p:nvSpPr>
        <p:spPr>
          <a:xfrm>
            <a:off x="2050920" y="692280"/>
            <a:ext cx="5834160" cy="1944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 деталях…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4" name="Picture 2" descr="https://encrypted-tbn3.gstatic.com/images?q=tbn:ANd9GcSF32SbLuUZoIqooQcACua2Uh-Rz8nKWCnyV0HaoWWHqblQ3sc9wQ"/>
          <p:cNvPicPr/>
          <p:nvPr/>
        </p:nvPicPr>
        <p:blipFill>
          <a:blip r:embed="rId1"/>
          <a:stretch/>
        </p:blipFill>
        <p:spPr>
          <a:xfrm>
            <a:off x="971640" y="3762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 </a:t>
            </a: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К компетенции образовательной организации в установленной сфере деятельности относятся: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азработка и принятие правил внутреннего распорядка обучающихся, правил внутреннего трудового распорядка, иных локальных нормативных актов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атериально-техническое обеспечение образовательной деятельности, оборудование помещений в соответствии с государственными и местными нормами и требованиями, в том числе в соответствии с федеральными государственными образовательными стандартами, федеральными государственными требованиями, образовательными стандартам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едоставление учредителю и общественности ежегодного отчета о поступлении и расходовании финансовых и материальных средств, а также отчета о результатах самообследова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Picture 2" descr="http://bolotnaya-18.ru/sites/default/files/imagefield_default_images/defolt.png"/>
          <p:cNvPicPr/>
          <p:nvPr/>
        </p:nvPicPr>
        <p:blipFill>
          <a:blip r:embed="rId1"/>
          <a:stretch/>
        </p:blipFill>
        <p:spPr>
          <a:xfrm>
            <a:off x="-108000" y="5492880"/>
            <a:ext cx="1917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 </a:t>
            </a: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К компетенции образовательной организации в установленной сфере деятельности относятся:</a:t>
            </a:r>
            <a:br>
              <a:rPr sz="39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установление штатного расписания, если иное не установлено нормативными правовыми актами Российской Федерации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рием на работу работников, заключение с ними и расторжение трудовых договоров, если иное не установлено настоящим Федеральным законом, распределение должностных обязанностей, создание условий и организация дополнительного профессионального образования работников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разработка и утверждение образовательных программ образовательной организации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Picture 2" descr="http://bolotnaya-18.ru/sites/default/files/imagefield_default_images/defolt.png"/>
          <p:cNvPicPr/>
          <p:nvPr/>
        </p:nvPicPr>
        <p:blipFill>
          <a:blip r:embed="rId1"/>
          <a:stretch/>
        </p:blipFill>
        <p:spPr>
          <a:xfrm>
            <a:off x="108000" y="5427720"/>
            <a:ext cx="20192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К компетенции образовательной организации в установленной сфере деятельности относятся: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разработка и утверждение по согласованию с учредителем программы развития образовательной организации, если иное не установлено настоящим Федеральным законом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ием обучающихся в образовательную организацию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пределение списка учебников в соответствии с утвержденным федеральным перечнем учебников, рекомендованных к использованию при реализации имеющих государственную аккредитацию образовательных программ начального общего, основного общего, среднего общего образования организациями, осуществляющими образовательную деятельность, а также учебных пособий, допущенных к использованию при реализации указанных образовательных программ такими организациями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3" name="Picture 2" descr="http://bolotnaya-18.ru/sites/default/files/imagefield_default_images/defolt.png"/>
          <p:cNvPicPr/>
          <p:nvPr/>
        </p:nvPicPr>
        <p:blipFill>
          <a:blip r:embed="rId1"/>
          <a:stretch/>
        </p:blipFill>
        <p:spPr>
          <a:xfrm>
            <a:off x="0" y="5157720"/>
            <a:ext cx="25239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К компетенции образовательной организации в установленной сфере деятельности относятся: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осуществление текущего контроля успеваемости и промежуточной аттестации обучающихся, установление их форм, периодичности и порядка проведени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индивидуальный учет результатов освоения обучающимися образовательных программ, а также хранение в архивах информации об этих результатах на бумажных и (или) электронных носителях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использование и совершенствование методов обучения и воспитания, образовательных технологий, электронного обучени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Picture 2" descr="http://bolotnaya-18.ru/sites/default/files/imagefield_default_images/defolt.png"/>
          <p:cNvPicPr/>
          <p:nvPr/>
        </p:nvPicPr>
        <p:blipFill>
          <a:blip r:embed="rId1"/>
          <a:stretch/>
        </p:blipFill>
        <p:spPr>
          <a:xfrm>
            <a:off x="0" y="5516640"/>
            <a:ext cx="212076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К компетенции образовательной организации в установленной сфере деятельности относятся: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едение самообследования, обеспечение функционирования внутренней системы оценки качества образова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ние необходимых условий для охраны и укрепления здоровья, организации питания обучающихся и работников образовательной организаци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Picture 2" descr="http://bolotnaya-18.ru/sites/default/files/imagefield_default_images/defolt.png"/>
          <p:cNvPicPr/>
          <p:nvPr/>
        </p:nvPicPr>
        <p:blipFill>
          <a:blip r:embed="rId1"/>
          <a:stretch/>
        </p:blipFill>
        <p:spPr>
          <a:xfrm>
            <a:off x="55440" y="5397480"/>
            <a:ext cx="20480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К компетенции образовательной организации в установленной сфере деятельности относятся: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ние условий для занятия обучающимися физической культурой и спортом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становление требований к одежде обучающихся, если иное не установлено настоящим Федеральным законом или законодательством субъектов Российской Федераци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2" name="Picture 2" descr="http://bolotnaya-18.ru/sites/default/files/imagefield_default_images/defolt.png"/>
          <p:cNvPicPr/>
          <p:nvPr/>
        </p:nvPicPr>
        <p:blipFill>
          <a:blip r:embed="rId1"/>
          <a:stretch/>
        </p:blipFill>
        <p:spPr>
          <a:xfrm>
            <a:off x="0" y="5419800"/>
            <a:ext cx="2016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К компетенции образовательной организации в установленной сфере деятельности относятся: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содействие деятельности общественных объединений обучающихся, родителей (законных представителей) несовершеннолетних обучающихся, осуществляемой в образовательной организации и не запрещенной законодательством Российской Федерации;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рганизация научно-методической работы, в том числе организация и проведение научных и методических конференций, семинаров;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беспечение создания и ведения официального сайта образовательной организации в сети "Интернет";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иные вопросы в соответствии с законодательством Российской Федерации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Picture 2" descr="http://bolotnaya-18.ru/sites/default/files/imagefield_default_images/defolt.png"/>
          <p:cNvPicPr/>
          <p:nvPr/>
        </p:nvPicPr>
        <p:blipFill>
          <a:blip r:embed="rId1"/>
          <a:stretch/>
        </p:blipFill>
        <p:spPr>
          <a:xfrm>
            <a:off x="0" y="5489640"/>
            <a:ext cx="19191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ава образовательной организа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Как любое юридическое лицо, образовательная ор­ганизация вправе иметь гражданские права, вести хозяйствен­ную деятельность, заключать соответствующие договоры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8" name="Picture 2" descr="http://34shkola.ucoz.ru/_tbkp/image022.jpg"/>
          <p:cNvPicPr/>
          <p:nvPr/>
        </p:nvPicPr>
        <p:blipFill>
          <a:blip r:embed="rId1"/>
          <a:stretch/>
        </p:blipFill>
        <p:spPr>
          <a:xfrm>
            <a:off x="6012000" y="3573360"/>
            <a:ext cx="27511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ава об­разовательной организации на ведение следующих видов дея­тельности: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286000" y="1447560"/>
            <a:ext cx="664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нсультационна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светительска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ятельность в сфере охраны здоровья граждан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ная деятельность, не противоречащая целям создания образовательной организации деятельность, в т. ч. осуществление и организация отдыха и оздоровление обучающихся в каникулярное врем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Picture 2" descr="http://www.venda.ru/mater/metod/picture.jpg"/>
          <p:cNvPicPr/>
          <p:nvPr/>
        </p:nvPicPr>
        <p:blipFill>
          <a:blip r:embed="rId1"/>
          <a:stretch/>
        </p:blipFill>
        <p:spPr>
          <a:xfrm>
            <a:off x="324000" y="4076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1 сентября 2013 года вступил в силу  Федеральный закон</a:t>
            </a: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  «Об образовании в Российской Федерации»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02920" y="14839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Закон определи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общие принципы правового регулирования отношений в сфере образования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омпетенцию образовательной организации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рава и обязанности образовательной организации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01200" indent="-222120" algn="just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рава и обязанности, ответственность всех участников образовательных отношений – педагогических работников, обучающихся,  их родителей ( законных представителей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2" descr="https://encrypted-tbn0.gstatic.com/images?q=tbn:ANd9GcRfZqu3WYTTr8a3ZAYTMr7DaFU3DNWwKPdnK8oNgRgVz-nCgpwacQ"/>
          <p:cNvPicPr/>
          <p:nvPr/>
        </p:nvPicPr>
        <p:blipFill>
          <a:blip r:embed="rId1"/>
          <a:stretch/>
        </p:blipFill>
        <p:spPr>
          <a:xfrm>
            <a:off x="7759800" y="1268280"/>
            <a:ext cx="1384200" cy="1729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http://ledyolga.ru/wp-content/uploads/2013/05/img3.png"/>
          <p:cNvPicPr/>
          <p:nvPr/>
        </p:nvPicPr>
        <p:blipFill>
          <a:blip r:embed="rId2"/>
          <a:stretch/>
        </p:blipFill>
        <p:spPr>
          <a:xfrm>
            <a:off x="250920" y="4724280"/>
            <a:ext cx="19447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58920" y="549360"/>
            <a:ext cx="75103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Образовательная организация, имеющая статус государствен­ного (муниципального) бюджетного учреждения, обладает также следующими правами, предусмотренными Законом № 7-ФЗ для некоммерческих организаций: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115640" y="1915920"/>
            <a:ext cx="758196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ыполнять работы, оказывать услуги, относящиеся к основ­ным видам деятельности, предусмотренным учредительным документом, для граждан и юридических лиц за плату и на одина­ковых при оказании одних и тех же услуг условиях сверх установ­ленного государственного (муниципального) задания, а также в случаях, определенных федеральными законами, в пределах уста­новленного государственного (муниципального) задания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существлять иные виды деятельности, не являющиеся основными, лишь постольку, поскольку это служит достижению целей, ради которых создано бюджетное учреждение, и соответ­ствующие указанным целям, при условии, что такая деятельность указана в учредительных документах учреждения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амостоятельно распоряжаться в случаях, установленных законом, находящимся на праве оперативного управления иму­ществом, не относящимся к особо ценному движимому имуще­ству, закрепленному за учреждением собственником или приоб­ретенным бюджетным учреждением за счет средств, выделенных ему собственником на приобретение такого имущества, а также недвижимым имуществом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4" name="Picture 2" descr="http://www.donskoi.org/wp-content/uploads/2010/12/school.jpg"/>
          <p:cNvPicPr/>
          <p:nvPr/>
        </p:nvPicPr>
        <p:blipFill>
          <a:blip r:embed="rId1"/>
          <a:stretch/>
        </p:blipFill>
        <p:spPr>
          <a:xfrm>
            <a:off x="6804000" y="5445000"/>
            <a:ext cx="180360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7407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Обязанности образовательной организации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6" name="Picture 2" descr="http://www.co1858.ru/uploads/posts/2012-05/1338358962_1290525490_knigi.png"/>
          <p:cNvPicPr/>
          <p:nvPr/>
        </p:nvPicPr>
        <p:blipFill>
          <a:blip r:embed="rId1"/>
          <a:stretch/>
        </p:blipFill>
        <p:spPr>
          <a:xfrm>
            <a:off x="5435640" y="3573360"/>
            <a:ext cx="301464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Согласно Федеральному закону «Об образовании в Россий­ской Федерации» образовательная организация обязана: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беспечивать в полном объеме реализацию образовательных программ; соответствие качества подготовки обучающихся установленным требованиям; применяемых форм, средств, методов обучения и воспитания возрастным, психофизиче­ским особенностям, склонностям, способностям, интересам и потребностям обучающихс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оздавать безопасные условия обучения, воспитания, обучающихся, их содержания в соответствии с установленными нормами, обеспечивающими жизнь и здоро­вье обучающихся, работников образовательной организации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облюдать права и свободы обучающихся, родителей (закон­ных представителей) несовершеннолетних обучающихся, ра­ботников образовательной организаци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9" name="Picture 2" descr="http://mishred.ru/uploads/posts/2012-07/1343713093_shkola-goda.jpg"/>
          <p:cNvPicPr/>
          <p:nvPr/>
        </p:nvPicPr>
        <p:blipFill>
          <a:blip r:embed="rId1"/>
          <a:stretch/>
        </p:blipFill>
        <p:spPr>
          <a:xfrm>
            <a:off x="0" y="530064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3040" y="1125360"/>
            <a:ext cx="7405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Ответственность образовательной организации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1" name="Picture 2" descr="http://school3-orel.3dn.ru/img/34488_or.jpg"/>
          <p:cNvPicPr/>
          <p:nvPr/>
        </p:nvPicPr>
        <p:blipFill>
          <a:blip r:embed="rId1"/>
          <a:stretch/>
        </p:blipFill>
        <p:spPr>
          <a:xfrm>
            <a:off x="5076720" y="2924280"/>
            <a:ext cx="39862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4388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Образовательная организация несет ответственность (административная ответственность в соответствии с Кодексом Российской Федерации об административных правонарушениях)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 в установленном законодательством Российской Федерации порядке за…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042560" y="1989000"/>
            <a:ext cx="76438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выполнение или ненадлежащее выполнение функций, отнесенных к ее компетенции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а реализацию не в полном объеме образовательных программ в соответствии с учебным планом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ачество образования своих выпускников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жизнь и здоровье обучающихся, работников образовательной организаци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рушение или незаконное ограничение права на образование и предусмотренных законодательством об образовании прав и свобод обучающихся, родителей (законных представителей) несовершеннолетних обучающихся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рушение требований к организации и осуществлению образовательной деятельнос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4" name="Picture 2" descr="http://boguslavka-48.narod.ru/shkola1.jpg"/>
          <p:cNvPicPr/>
          <p:nvPr/>
        </p:nvPicPr>
        <p:blipFill>
          <a:blip r:embed="rId1"/>
          <a:stretch/>
        </p:blipFill>
        <p:spPr>
          <a:xfrm>
            <a:off x="7740720" y="5516640"/>
            <a:ext cx="12380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03280" y="1052640"/>
            <a:ext cx="740736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Информационная открытость образовательной организации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332000" y="2349000"/>
            <a:ext cx="6400800" cy="2519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бразовательные организации формируют открытые и общедоступные информационные ресурсы, содержащие информацию об их деятельности, и обеспечивают доступ к таким ресурсам посредством размещения их в информационно-телекоммуникационных сетях, в том числе на официальном сайте образовательной организации в сети "Интернет"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7" name="Picture 4" descr="http://dontreg.ru/sites/default/files/images/Internet_Explorer.jpg"/>
          <p:cNvPicPr/>
          <p:nvPr/>
        </p:nvPicPr>
        <p:blipFill>
          <a:blip r:embed="rId1"/>
          <a:stretch/>
        </p:blipFill>
        <p:spPr>
          <a:xfrm>
            <a:off x="7102440" y="4078440"/>
            <a:ext cx="2206800" cy="16524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http://www.convert-mw.ru/wp-content/uploads/2013/11/internet.jpg"/>
          <p:cNvPicPr/>
          <p:nvPr/>
        </p:nvPicPr>
        <p:blipFill>
          <a:blip r:embed="rId2"/>
          <a:stretch/>
        </p:blipFill>
        <p:spPr>
          <a:xfrm>
            <a:off x="5724360" y="4724280"/>
            <a:ext cx="215748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46360" y="475920"/>
            <a:ext cx="5112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Нам нечего скрывать!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360080" y="19634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ttp://school80.tgl.ru/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ttp://nschool.tgl.net.ru/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1" name="Picture 2" descr="http://eorhelp.ru/sites/default/files/ckeditor/21304/images/createwww.jpg"/>
          <p:cNvPicPr/>
          <p:nvPr/>
        </p:nvPicPr>
        <p:blipFill>
          <a:blip r:embed="rId1"/>
          <a:stretch/>
        </p:blipFill>
        <p:spPr>
          <a:xfrm>
            <a:off x="6102360" y="4365720"/>
            <a:ext cx="2117880" cy="21906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http://liubavyshka.ru/_ph/4/1/357458179.jpg"/>
          <p:cNvPicPr/>
          <p:nvPr/>
        </p:nvPicPr>
        <p:blipFill>
          <a:blip r:embed="rId2"/>
          <a:stretch/>
        </p:blipFill>
        <p:spPr>
          <a:xfrm>
            <a:off x="1187280" y="404640"/>
            <a:ext cx="20894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Тип, наименование и устав образовательной организации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4" name="Picture 2" descr="http://prikolnye-smeshnye.ru/ris/kartinky/10_pro_shkolu_uchiteley.gif"/>
          <p:cNvPicPr/>
          <p:nvPr/>
        </p:nvPicPr>
        <p:blipFill>
          <a:blip r:embed="rId1"/>
          <a:stretch/>
        </p:blipFill>
        <p:spPr>
          <a:xfrm>
            <a:off x="3635280" y="2637000"/>
            <a:ext cx="523872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15640" y="3573360"/>
            <a:ext cx="74055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бразовательные организации подразделяются на типы в соответствии с образовательными программами, реализация которых является основной целью их деятельности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6" name="Picture 2" descr="http://funforkids.ru/pictures/school22/school2224.gif"/>
          <p:cNvPicPr/>
          <p:nvPr/>
        </p:nvPicPr>
        <p:blipFill>
          <a:blip r:embed="rId1"/>
          <a:stretch/>
        </p:blipFill>
        <p:spPr>
          <a:xfrm>
            <a:off x="6443640" y="4581360"/>
            <a:ext cx="231444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4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Наименование образовательной организации должно содержать указание на ее организационно-правовую форму и тип образовательной организации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042560" y="1916280"/>
            <a:ext cx="76438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наименовании образовательной организации могут использоваться наименования, указывающие на особенности осуществляемой образовательной деятельности (уровень и направленность образовательных программ, интеграция различных видов образовательных программ, содержание образовательной программы, специальные условия их реализации и (или) особые образовательные потребности обучающихся), а также дополнительно осуществляемые функции, связанные с предоставлением образования (содержание, лечение, реабилитация, коррекция, психолого-педагогическая поддержка, интернат, научно-исследовательская, технологическая деятельность и иные функции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9" name="Picture 2" descr="http://luzan.ucoz.ru/animes/zvonok.gif"/>
          <p:cNvPicPr/>
          <p:nvPr/>
        </p:nvPicPr>
        <p:blipFill>
          <a:blip r:embed="rId1"/>
          <a:stretch/>
        </p:blipFill>
        <p:spPr>
          <a:xfrm>
            <a:off x="7164360" y="4869000"/>
            <a:ext cx="2087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 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71280" y="476280"/>
            <a:ext cx="7715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Общеобразовательна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организация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–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бразовательная организация, осуществляющая в качестве основной цели ее деятельности образовательную деятельность по образовательным программам начального общего, основного общего и (или) среднего общего образования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фициальный источник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Федеральный закон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б образовании 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Принят Государственной Думой 21 декабря 2012 года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Одобрен Советом Федерации 26 декабря 2012 год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2" descr="http://erudit-2.com/wp-content/uploads/2013/11/school2515.jpg"/>
          <p:cNvPicPr/>
          <p:nvPr/>
        </p:nvPicPr>
        <p:blipFill>
          <a:blip r:embed="rId1"/>
          <a:stretch/>
        </p:blipFill>
        <p:spPr>
          <a:xfrm>
            <a:off x="7093080" y="0"/>
            <a:ext cx="1730160" cy="1655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https://encrypted-tbn3.gstatic.com/images?q=tbn:ANd9GcTOhK_FlvNbXpz6LAU9KQTAceQ9vo2KlpG9V8tMuJABUreDlKva"/>
          <p:cNvPicPr/>
          <p:nvPr/>
        </p:nvPicPr>
        <p:blipFill>
          <a:blip r:embed="rId2"/>
          <a:stretch/>
        </p:blipFill>
        <p:spPr>
          <a:xfrm>
            <a:off x="0" y="4797360"/>
            <a:ext cx="239544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Устав образовательной организа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 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Образовательная организация действует на основании устава, утвержденного в порядке, установленном законодательством Российской Федераци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2" name="Picture 2" descr="http://shkola-sad_orlenok.dagschool.com/_http_schools/1709/Shkola-sad_Orlenok/admin/ckfinder/core/connector/php/connector.phpfck_user_files/images/1.jpg"/>
          <p:cNvPicPr/>
          <p:nvPr/>
        </p:nvPicPr>
        <p:blipFill>
          <a:blip r:embed="rId1"/>
          <a:stretch/>
        </p:blipFill>
        <p:spPr>
          <a:xfrm>
            <a:off x="4129200" y="3213000"/>
            <a:ext cx="4451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8280" y="28080"/>
            <a:ext cx="828036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Закон об образовании существенно изменил требования к структуре и содержанию устав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006560" y="1817280"/>
            <a:ext cx="3657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Ране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Основной акцент – вопросы организации образовательного процесс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484520" y="1925280"/>
            <a:ext cx="42912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Уставы, составленные по новым правила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Основной акцент – управление и руководство образовательной организацие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TextBox 11"/>
          <p:cNvSpPr/>
          <p:nvPr/>
        </p:nvSpPr>
        <p:spPr>
          <a:xfrm>
            <a:off x="1009800" y="5157720"/>
            <a:ext cx="810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одробная регламентация образовательного процесса будет осуществляться путем принятия локальных актов, которые не требуют государственной регистрации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и могут оперативно изменятьс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Стрелка вправо 12"/>
          <p:cNvSpPr/>
          <p:nvPr/>
        </p:nvSpPr>
        <p:spPr>
          <a:xfrm>
            <a:off x="3371760" y="2133720"/>
            <a:ext cx="1046160" cy="6476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8" name="Picture 2" descr="http://che.rus4all.ru/images/72356/99/723569954.jpg"/>
          <p:cNvPicPr/>
          <p:nvPr/>
        </p:nvPicPr>
        <p:blipFill>
          <a:blip r:embed="rId1"/>
          <a:stretch/>
        </p:blipFill>
        <p:spPr>
          <a:xfrm>
            <a:off x="6632640" y="73080"/>
            <a:ext cx="234000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В уставе образовательной организации должна содержаться наряду с информацией, предусмотренной законодательством Российской Федерации, следующая информация:</a:t>
            </a:r>
            <a:br>
              <a:rPr sz="24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2133720"/>
            <a:ext cx="69231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тип образовательной организации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учредитель или учредители образовательной организации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иды реализуемых образовательных программ с указанием уровня образования и (или) направленности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труктура и компетенция органов управления образовательной организации, порядок их формирования и сроки полномочий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1" name="Picture 2" descr="http://warezokey.com/uploads/posts/2012-08/1345351937_school-call-0.jpg"/>
          <p:cNvPicPr/>
          <p:nvPr/>
        </p:nvPicPr>
        <p:blipFill>
          <a:blip r:embed="rId1"/>
          <a:stretch/>
        </p:blipFill>
        <p:spPr>
          <a:xfrm>
            <a:off x="7380360" y="4653000"/>
            <a:ext cx="15271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31640" y="3429000"/>
            <a:ext cx="74055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 образовательной организации должны быть созданы условия для ознакомления всех работников, обучающихся, родителей (законных представителей) несовершеннолетних обучающихся с ее уставом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23" name="Picture 2" descr="http://xn--10-mlclgj2f.xn--p1ai/libs/xinha/plugins/ImageManager/demo_images/nachalka/Globus4.jpg"/>
          <p:cNvPicPr/>
          <p:nvPr/>
        </p:nvPicPr>
        <p:blipFill>
          <a:blip r:embed="rId1"/>
          <a:stretch/>
        </p:blipFill>
        <p:spPr>
          <a:xfrm>
            <a:off x="6300720" y="4851360"/>
            <a:ext cx="268308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76000" y="1773000"/>
            <a:ext cx="74055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Реализация образовательных программ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115640" y="3860280"/>
            <a:ext cx="74055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541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Самостоятельная форма реализации (ОУ)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541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Сетевая форма реализации (несколько ОУ) на основе объединения ресурсов для образовательной деятельности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240" y="140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Правовой статус руководителя образовательной организации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уководитель образовательной организации в соответствии с законодательством Российской Федерации и уставом образовательной организаци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назначается Учредителем образовательной организац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8" name="Picture 2" descr="http://kachar-school.narod.ru/novosti/logonip.jpg"/>
          <p:cNvPicPr/>
          <p:nvPr/>
        </p:nvPicPr>
        <p:blipFill>
          <a:blip r:embed="rId1"/>
          <a:stretch/>
        </p:blipFill>
        <p:spPr>
          <a:xfrm>
            <a:off x="108000" y="4941720"/>
            <a:ext cx="1547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1115640" y="1886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уководитель образовательной организации несет ответственность за руководство образовательной, научной, воспитательной работой и организационно-хозяйственной деятельностью образовательной организа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0" name="Picture 2" descr="http://www.chelsi.ru/uploads/posts/2011-11/1322461710_direktor.jpg"/>
          <p:cNvPicPr/>
          <p:nvPr/>
        </p:nvPicPr>
        <p:blipFill>
          <a:blip r:embed="rId1"/>
          <a:stretch/>
        </p:blipFill>
        <p:spPr>
          <a:xfrm>
            <a:off x="5940360" y="3429000"/>
            <a:ext cx="226368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Требования к </a:t>
            </a: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руководителю образовательной организации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андидаты на должность руководителя образовательной организации должны иметь высшее образование и соответствовать квалификационным требованиям, указанным в квалификационных справочниках, по соответствующим должностям руководителей образовательных организаций и (или) профессиональным стандарта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апрещается занятие должности руководителя образовательной организации лицами, которые не допускаются к педагогической деятельности по основаниям, установленным трудовым законодательство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андидаты на должность руководителя государственной или муниципальной образовательной организации и ее руководитель (за исключением руководителей, указанных в пунктах 3 и 4 части 1 настоящей статьи) проходят обязательную аттестацию.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3" name="Picture 2" descr="http://prikolnye-smeshnye.ru/ris/statusy/439.jpg"/>
          <p:cNvPicPr/>
          <p:nvPr/>
        </p:nvPicPr>
        <p:blipFill>
          <a:blip r:embed="rId1"/>
          <a:stretch/>
        </p:blipFill>
        <p:spPr>
          <a:xfrm>
            <a:off x="7153200" y="5084640"/>
            <a:ext cx="1781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908000" y="2260440"/>
            <a:ext cx="7405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Ответственность педагогических работник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115640" y="476280"/>
            <a:ext cx="74055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20e04"/>
                </a:solidFill>
                <a:latin typeface="Corbel"/>
              </a:rPr>
              <a:t>Право на занятие педагогической деятельностью имеют лица, имеющие среднее профессиональное или высшее образование и отвечающие квалификационным требованиям, указанным в квалификационных справочниках, и (или) профессиональным стандарта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6" name="Picture 2" descr="http://www.filipoc.ru/attaches/posts/interesting/2012-12-12/professiya-uchitel/1a3fd3303b143ed24a1bcd9029e36b0d.jpg"/>
          <p:cNvPicPr/>
          <p:nvPr/>
        </p:nvPicPr>
        <p:blipFill>
          <a:blip r:embed="rId1"/>
          <a:stretch/>
        </p:blipFill>
        <p:spPr>
          <a:xfrm>
            <a:off x="1116000" y="3716280"/>
            <a:ext cx="2703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Обязанности педагогических работник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огласно Федеральному закону «Об образовании в Россий­ской Федерации» педагогические работники обязаны осущест­влять свою деятельность на высоком профессиональном уровне, обеспечивать в полном объеме реализацию преподаваемых учеб­ных предметов, курса, дисциплины (модуля) в соответствии с ут­вержденной рабочей программой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Управление образовательной организацие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Управление образовательной организацией осуществляется в соответствии с законодательством Российской Федерации с учетом особенностей, установленных настоящим Федеральным закон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овый закон включает в обязанности педагогических работ­ников соблюдение правовых, нравственных, этических норм, а также следование требованиям профессиональной этик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Заголовок 1"/>
          <p:cNvSpPr/>
          <p:nvPr/>
        </p:nvSpPr>
        <p:spPr>
          <a:xfrm>
            <a:off x="1403280" y="270000"/>
            <a:ext cx="749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Обязанности педагогических работников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Обязанности педагогических работник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едеральным законом «Об образовании в Российской Федера­ции» установлена обязанность педагогических работников ува­жать честь и достоинство обучающихся и других участников об­разовательных отношен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едагогические работники обязаны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755280" y="11966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развивать у обучающихся познавательную активность, самостоятельность, инициативу, творческие способности, формировать гражданскую позицию, способность к труду и жизни в условиях современного мира, формировать у обучающихся культуру здорового и безопасного образа жизни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именять педагогически обоснованные и обеспечивающие высокое качество образования формы, методы обучения и воспитан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учитывать особенности психофизического развития обучающихся и состояние их здоровья, соблюдать специальные условия, необходимые для получения образования лицами с ограниченными возможностями здоровья, взаимодействовать при необходимости с медицинскими организациями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45" name="Picture 2" descr="http://gimnazia40.ru/upload/teacher01.jpg"/>
          <p:cNvPicPr/>
          <p:nvPr/>
        </p:nvPicPr>
        <p:blipFill>
          <a:blip r:embed="rId1"/>
          <a:stretch/>
        </p:blipFill>
        <p:spPr>
          <a:xfrm>
            <a:off x="6804000" y="5121360"/>
            <a:ext cx="174780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едагогические работники обязаны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истематически повышать свой профессиональный уровень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оходить аттестацию на соответствие занимаемой должности в порядке, установленном законодательством об образовании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оходить в соответствии с трудовым законодательством предварительные при поступлении на работу и периодические медицинские осмотры, а также внеочередные медицинские осмотры по направлению работодателя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48" name="Picture 2" descr="http://www.dreamstime.com/owl-teacher-with-globe-thumb6011983.jpg"/>
          <p:cNvPicPr/>
          <p:nvPr/>
        </p:nvPicPr>
        <p:blipFill>
          <a:blip r:embed="rId1"/>
          <a:stretch/>
        </p:blipFill>
        <p:spPr>
          <a:xfrm>
            <a:off x="6480" y="4941720"/>
            <a:ext cx="18288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едагогические работники обязаны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ходить в установленном законодательством Российской Федерации порядке обучение и проверку знаний и навыков в области охраны труд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блюдать устав образовательной организации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авила внутреннего трудового распоряд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51" name="Picture 2" descr="http://ftl1.ru/tl_files/images/teachers_photos/teacher_man.jpg"/>
          <p:cNvPicPr/>
          <p:nvPr/>
        </p:nvPicPr>
        <p:blipFill>
          <a:blip r:embed="rId1"/>
          <a:stretch/>
        </p:blipFill>
        <p:spPr>
          <a:xfrm>
            <a:off x="-27000" y="0"/>
            <a:ext cx="19350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Права педагогических работников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826560" y="1447560"/>
            <a:ext cx="6481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вобода преподавания, свободное выражение своего мнения, свобода от вмешательства в профессиональную деятельность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вобода выбора и использования педагогически обоснованных форм, средств, методов обучения и воспита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аво на творческую инициативу, разработку и применение авторских программ и методов обучения и воспитания в пределах реализуемой образовательной программы, отдельного учебного предмета, курса, дисциплины (модуля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54" name="Picture 2" descr="http://www.proza.ru/pics/2012/04/02/1348.jpg"/>
          <p:cNvPicPr/>
          <p:nvPr/>
        </p:nvPicPr>
        <p:blipFill>
          <a:blip r:embed="rId1"/>
          <a:stretch/>
        </p:blipFill>
        <p:spPr>
          <a:xfrm>
            <a:off x="6659640" y="189000"/>
            <a:ext cx="209844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1668240" y="14126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аво на выбор учебников, учебных пособий, материалов и иных средств обучения и воспитания в соответствии с образовательной программой и в порядке, установленном законодательством об образовании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аво на участие в разработке образовательных программ, в том числе учебных планов, календарных учебных графиков, рабочих учебных предметов, курсов, дисциплин (модулей), методических материалов и иных компонентов образовательных программ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аво на осуществление научной, научно-технической, творческой, исследовательской деятельности, участие в экспериментальной и международной деятельности, разработках и во внедрении инноваций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Права педагогических работник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57" name="Picture 2" descr="http://bsn.irk.ru/wp-content/uploads/1-english.jpg"/>
          <p:cNvPicPr/>
          <p:nvPr/>
        </p:nvPicPr>
        <p:blipFill>
          <a:blip r:embed="rId1"/>
          <a:stretch/>
        </p:blipFill>
        <p:spPr>
          <a:xfrm>
            <a:off x="-108000" y="4183200"/>
            <a:ext cx="194328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аво на бесплатное пользование библиотеками и информационными ресурсами, а также доступ в порядке, установленном локальными нормативными актами организации, осуществляющей образовательную деятельность, к информационно-телекоммуникационным сетям и базам данных, учебным и методическим материалам, музейным фондам, материально-техническим средствам обеспечения образовательной деятельности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аво на бесплатное пользование образовательными, методическими и научными услугами организации, осуществляющей образовательную деятельность, в порядке, установленном законодательством Российской Федерации или локальными нормативными актами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Права педагогических работник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60" name="Picture 2" descr="http://www.vitamarg.com/f/image/uchitel-uchenik.gif"/>
          <p:cNvPicPr/>
          <p:nvPr/>
        </p:nvPicPr>
        <p:blipFill>
          <a:blip r:embed="rId1"/>
          <a:stretch/>
        </p:blipFill>
        <p:spPr>
          <a:xfrm>
            <a:off x="-28440" y="4292640"/>
            <a:ext cx="2638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Права педагогических работник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аво на участие в управлении образовательной организацией, в том числе в коллегиальных органах управления, в порядке, установленном уставом этой организации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аво на участие в обсуждении вопросов, относящихся к деятельности образовательной организации, в том числе через органы управления и общественные организации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аво на объединение в общественные профессиональные организации в формах и в порядке, которые установлены законодательством Российской Федерации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3" name="Picture 2" descr="http://s48.radikal.ru/i122/1108/4a/01f31e9621df.png"/>
          <p:cNvPicPr/>
          <p:nvPr/>
        </p:nvPicPr>
        <p:blipFill>
          <a:blip r:embed="rId1"/>
          <a:stretch/>
        </p:blipFill>
        <p:spPr>
          <a:xfrm>
            <a:off x="55440" y="4570560"/>
            <a:ext cx="199548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Права педагогических работник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аво на обращение в комиссию по урегулированию споров между участниками образовательных отношений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аво на защиту профессиональной чести и достоинства, на справедливое и объективное расследование нарушения норм профессиональной этики педагогических работников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6" name="Picture 2" descr="http://kashanya.com/_ph/10/2/970690849.png"/>
          <p:cNvPicPr/>
          <p:nvPr/>
        </p:nvPicPr>
        <p:blipFill>
          <a:blip r:embed="rId1"/>
          <a:stretch/>
        </p:blipFill>
        <p:spPr>
          <a:xfrm>
            <a:off x="324000" y="4221000"/>
            <a:ext cx="269532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Управление образовательной организацие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26560" y="1523520"/>
            <a:ext cx="426564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Единоличным исполнительным органом образовательной организации является руководитель образовательной организации (ректор, директор, заведующий, начальник или иной руководитель), который осуществляет текущее руководство деятельностью образовательной организац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932000" y="1523880"/>
            <a:ext cx="4002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 образовательной организации формируются коллегиальные органы управления, к которым относятся общее собрание (конференция) работников образовательной), педагогический совет, а также могут формироваться попечительский совет, управляющий совет, наблюдательный совет и другие коллегиальные органы управления, предусмотренные уставом соответствующей образовательной организац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Выноска-облако 3" descr=""/>
          <p:cNvPicPr/>
          <p:nvPr/>
        </p:nvPicPr>
        <p:blipFill>
          <a:blip r:embed="rId1"/>
          <a:stretch/>
        </p:blipFill>
        <p:spPr>
          <a:xfrm>
            <a:off x="665280" y="1285920"/>
            <a:ext cx="4138560" cy="1890720"/>
          </a:xfrm>
          <a:prstGeom prst="rect">
            <a:avLst/>
          </a:prstGeom>
          <a:ln w="0">
            <a:noFill/>
          </a:ln>
        </p:spPr>
      </p:pic>
      <p:pic>
        <p:nvPicPr>
          <p:cNvPr id="341" name="Выноска-облако 4" descr=""/>
          <p:cNvPicPr/>
          <p:nvPr/>
        </p:nvPicPr>
        <p:blipFill>
          <a:blip r:embed="rId2"/>
          <a:stretch/>
        </p:blipFill>
        <p:spPr>
          <a:xfrm>
            <a:off x="4200480" y="1219320"/>
            <a:ext cx="484668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1042920" y="8474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дагогические работники несут ответственность за неисполнение или ненадлежащее исполнение возложенных на них обязанностей в порядке и в случаях, которые установлены федеральными законам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8" name="Picture 2" descr="http://planeta-oblepihi.ru/wp-content/uploads/2010/05/Cartoon-Clipart-Free-16.gif"/>
          <p:cNvPicPr/>
          <p:nvPr/>
        </p:nvPicPr>
        <p:blipFill>
          <a:blip r:embed="rId1"/>
          <a:stretch/>
        </p:blipFill>
        <p:spPr>
          <a:xfrm>
            <a:off x="6588000" y="4437000"/>
            <a:ext cx="23799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1042920" y="1886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связи со спецификой педагогической деятельности ТК РФ прямо предусматривает основание для увольнения педагогиче­ского работника за совершение аморального проступка, несовме­стимого с продолжением данной работы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0" name="Picture 2" descr="http://avapic.ru/blog/wp-content/uploads/2012/09/chkola222.jpg"/>
          <p:cNvPicPr/>
          <p:nvPr/>
        </p:nvPicPr>
        <p:blipFill>
          <a:blip r:embed="rId1"/>
          <a:stretch/>
        </p:blipFill>
        <p:spPr>
          <a:xfrm>
            <a:off x="7093080" y="3433680"/>
            <a:ext cx="191592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Аттестация педагогических работник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258920" y="2349000"/>
            <a:ext cx="7407360" cy="2087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 </a:t>
            </a:r>
            <a:r>
              <a:rPr b="1" lang="ru-RU" sz="2200" spc="-1" strike="noStrike">
                <a:solidFill>
                  <a:srgbClr val="320e04"/>
                </a:solidFill>
                <a:latin typeface="Corbel"/>
              </a:rPr>
              <a:t>Аттестация педагогических работников проводится в целях подтверждения соответствия педагогических работников занимаемым ими должностям на основе оценки их профессиональной деятельности и по желанию педагогических работников в целях установления квалификационной категори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3" name="Picture 2" descr="http://modistka.info/uploads/posts/2012-08/1345126270_ol.jpg"/>
          <p:cNvPicPr/>
          <p:nvPr/>
        </p:nvPicPr>
        <p:blipFill>
          <a:blip r:embed="rId1"/>
          <a:stretch/>
        </p:blipFill>
        <p:spPr>
          <a:xfrm>
            <a:off x="6516720" y="4232160"/>
            <a:ext cx="230328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826920" y="404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оведение аттестации педагогических работников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в целях подтверждения соответствия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едагогических работников занимаемым ими должностям осуществляется один раз в пять лет на основе оценки их профессиональной деятельности аттестационными комиссиями, самостоятельно формируемыми организациями, осуществляющими образовательную деятельнос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5" name="Picture 2" descr="http://osvita-selid.ucoz.ua/Images/art/originalDO.jpg"/>
          <p:cNvPicPr/>
          <p:nvPr/>
        </p:nvPicPr>
        <p:blipFill>
          <a:blip r:embed="rId1"/>
          <a:stretch/>
        </p:blipFill>
        <p:spPr>
          <a:xfrm>
            <a:off x="7418520" y="4581360"/>
            <a:ext cx="152388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1042560" y="404280"/>
            <a:ext cx="7891560" cy="584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оведение аттестации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orbel"/>
              </a:rPr>
              <a:t>в целях установления квалификационной категории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едагогических работников организаций, осуществляющих образовательную деятельность и находящихся в ведении федеральных органов исполнительной власти, осуществляется аттестационными комиссиями, формируемыми федеральными органами исполнительной власти, в ведении которых эти организации находятся, а в отношении педагогических работников организаций, осуществляющих образовательную деятельность и находящихся в ведении субъекта Российской Федерации, педагогических работников муниципальных и частных организаций, осуществляющих образовательную деятельность, проведение данной аттестации осуществляется аттестационными комиссиями, формируемыми уполномоченными органами государственной власти субъектов Российской Федераци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7" name="Picture 2" descr="http://svetlana03.ucoz.ru/_nw/0/98936079.jpg"/>
          <p:cNvPicPr/>
          <p:nvPr/>
        </p:nvPicPr>
        <p:blipFill>
          <a:blip r:embed="rId1"/>
          <a:stretch/>
        </p:blipFill>
        <p:spPr>
          <a:xfrm>
            <a:off x="6804000" y="4797360"/>
            <a:ext cx="165564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Иные работники образовательных организаци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755280" y="13410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 образовательных организациях наряду с должностями педагогических работников, научных работников предусматриваются должности инженерно-технических, административно-хозяйственных, производственных, учебно-вспомогательных, медицинских и иных работников, осуществляющих вспомогательные функци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раво на занятие должностей, имеют лица, отвечающие квалификационным требованиям, указанным в квалификационных справочниках, и (или) профессиональным стандартам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0" name="Picture 2" descr="http://shopdec.ru/images/second.jpg"/>
          <p:cNvPicPr/>
          <p:nvPr/>
        </p:nvPicPr>
        <p:blipFill>
          <a:blip r:embed="rId1"/>
          <a:stretch/>
        </p:blipFill>
        <p:spPr>
          <a:xfrm>
            <a:off x="6721560" y="3573360"/>
            <a:ext cx="24033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23640" y="6505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Иные работники образовательных организаци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042920" y="2050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ава, обязанности и ответственность работников образовательных организаций, занимающих иные должности, устанавливаются законодательством Российской Федерации, уставом, правилами внутреннего трудового распорядка и иными локальными нормативными актами образовательных организаций, должностными инструкциями и трудовыми договорам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аместителям руководителей образовательных организаций, руководителям структурных подразделений и их заместителям предоставляются в порядке, установленном Правительством Российской Федерации, права, социальные гарантии и меры социальной поддержки, как и педагогическим работника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3" name="Picture 2" descr="http://kem-budu.ru/public_images/image/zavuch_direktor_.jpg"/>
          <p:cNvPicPr/>
          <p:nvPr/>
        </p:nvPicPr>
        <p:blipFill>
          <a:blip r:embed="rId1"/>
          <a:stretch/>
        </p:blipFill>
        <p:spPr>
          <a:xfrm>
            <a:off x="7373880" y="0"/>
            <a:ext cx="17701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1564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Мы учитываем все мнения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11280" y="1239480"/>
            <a:ext cx="6129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создаются 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советы обучающихся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(в профессиональной образовательной организации и образовательной организации высшего образования - студенческие советы), 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советы родителей (законных представителей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) несовершеннолетних обучающихся или иные органы (далее - советы обучающихся, советы родителей);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действуют 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профессиональные союзы работников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бразовательной организации (далее - представительные органы обучающихся, представительные органы работников)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4" descr="http://norbekovclub.ru/upload/blog/7ff/7ff3325025f655471c0a55b2685e5a43.jpg"/>
          <p:cNvPicPr/>
          <p:nvPr/>
        </p:nvPicPr>
        <p:blipFill>
          <a:blip r:embed="rId1"/>
          <a:stretch/>
        </p:blipFill>
        <p:spPr>
          <a:xfrm>
            <a:off x="6516720" y="1127160"/>
            <a:ext cx="240192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72314"/>
                </a:solidFill>
                <a:latin typeface="Corbel"/>
              </a:rPr>
              <a:t>Компетенция ОУ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042920" y="2420640"/>
            <a:ext cx="4608720" cy="3529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e04"/>
                </a:solidFill>
                <a:latin typeface="Corbel"/>
              </a:rPr>
              <a:t>Определение компетенции образовательной организации играет важнейшую роль для регулирования сферы образова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Picture 2" descr="http://ozerkischool.bos.ru/image/logo.gif"/>
          <p:cNvPicPr/>
          <p:nvPr/>
        </p:nvPicPr>
        <p:blipFill>
          <a:blip r:embed="rId1"/>
          <a:stretch/>
        </p:blipFill>
        <p:spPr>
          <a:xfrm>
            <a:off x="5867280" y="3284640"/>
            <a:ext cx="259236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Федеральный за­кон «Об образовании в Российской Федерации» - методологическая основа установления компетенции ОУ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2" descr="https://encrypted-tbn0.gstatic.com/images?q=tbn:ANd9GcTkOVi-J5vH2IG-9ypaQWMspZIgur4zptK5WC7vOWCavbCR8FDl"/>
          <p:cNvPicPr/>
          <p:nvPr/>
        </p:nvPicPr>
        <p:blipFill>
          <a:blip r:embed="rId1"/>
          <a:stretch/>
        </p:blipFill>
        <p:spPr>
          <a:xfrm>
            <a:off x="6319800" y="4149720"/>
            <a:ext cx="235584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Образовательная организация обладает автономией, под которой понимается самостоятельность в</a:t>
            </a: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осуществлении образовательной,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научной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административной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инансово-эконом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разработке и принятии локальных нормативных актов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2" descr="http://i99.beon.ru/2.bp.blogspot.com/-IhDjDCX2lK0/TlsBQTChlcI/AAAAAAAAC8U/QWXW_J87HZs/s1600/school.jpg"/>
          <p:cNvPicPr/>
          <p:nvPr/>
        </p:nvPicPr>
        <p:blipFill>
          <a:blip r:embed="rId1"/>
          <a:stretch/>
        </p:blipFill>
        <p:spPr>
          <a:xfrm>
            <a:off x="6227640" y="4508640"/>
            <a:ext cx="253044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8:28:15Z</dcterms:created>
  <dc:creator>teach</dc:creator>
  <dc:description/>
  <dc:language>en-US</dc:language>
  <cp:lastModifiedBy>dir</cp:lastModifiedBy>
  <cp:lastPrinted>2014-01-29T06:58:15Z</cp:lastPrinted>
  <dcterms:modified xsi:type="dcterms:W3CDTF">2014-01-29T07:02:06Z</dcterms:modified>
  <cp:revision>48</cp:revision>
  <dc:subject/>
  <dc:title>Презентация PowerPoint</dc:title>
</cp:coreProperties>
</file>