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chimes.wav" ContentType="audio/x-wav"/>
  <Override PartName="/ppt/media/image6.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move the slide</a:t>
            </a:r>
            <a:endParaRPr b="0" lang="en-US" sz="4000" spc="-1" strike="noStrike">
              <a:solidFill>
                <a:srgbClr val="696464"/>
              </a:solidFill>
              <a:latin typeface="Calibri"/>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2CEE-52F3-4907-837C-E1FDB6D3F6A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8126-5A8A-4CC0-8BCB-F3305C44C4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406FC-029B-4919-9202-78B457D30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1DCB-333E-41C3-AC45-3E23579E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388DD-71C1-4032-9A4A-FB9A32C54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CA42-5BD2-4508-8B46-D2EAFBBD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9537E-BD12-4C84-82B7-27BFF405A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82BCC-0822-4198-8F3E-3F1954A1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C339-A23E-4207-939A-A96083F55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30473-424A-4D5D-A5D1-5D023176E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97E03-E5D3-4A7D-9966-9592F9268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03FA-55FE-4C2D-B295-35B0EF8AC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16E32-8B67-4A07-B0CD-32C7086D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88A8F-C130-40DD-B542-4223C1AE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BA37-0E6A-4855-8A95-C04A32E8F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C356E-FFDE-4E78-8700-0BDDFF53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9CCF-A2DE-4CBA-89FB-F600516B1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FB3DD-4C4F-43EE-8A29-74ED36A43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C5B5E-AA74-42EE-93AD-B5B42719F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03CED-7F3E-499C-BA81-7B16426D7A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BC519-C74E-4D16-A0BA-2D99C6CD9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5EFBD-8C8F-4CC3-8EC1-F93EE4CCD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7FF66-1101-4BBC-9B20-0DBA083E4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25DBD-3E35-45DD-926F-477DB0D20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D48B-13B5-49CC-9127-EF2AE16D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B132F-BFB8-4DC8-81EB-751C37E07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58F1D-2B08-4923-B344-B3AC05506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45933-1F29-4D97-8C84-9DF72A8B2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131F2-F7D4-4A17-ACD1-3A78DFF2E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F85B0-2C72-46A8-907E-4A2CDB84A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C48BF-8F53-4C00-805E-6B383344D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51D16-8CB9-4254-8776-00905BEA38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8D124-111C-4C05-A98B-29F577A76B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A338D-6F64-45AC-A224-A0551089B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2AABB-AF29-4A4E-8BF5-7C19B50F6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2E09-18E6-48D3-832A-29667641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EB35E-07EB-4B04-8596-81D97987F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26A60-0CD2-46A7-8532-94180E7236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1ED71-8A7A-4790-8F83-53EA01F7E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DBA9C-2FAE-4232-A608-1D601414D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07D52-FFAB-4F01-A8BD-AF24F6382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01F51-67F8-4972-AA2D-9526FF130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B5D59-DAD3-439C-9176-5D6F49206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DF30EA-484F-4E6E-95DB-A1EBCA7DF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43504-27DC-4DC9-AB1C-5F2EB1DBD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FB6AD-ADD8-4187-9F99-FEBEC9DB9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E0D52-AF48-4763-BA68-41B3E9C7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C0F4C-0018-4781-A929-1663CE70E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9DB51-D4A8-4518-96C9-7C0DFB375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B1043-637F-47A5-B70E-123CFFEAF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59609-BDC2-49D9-A962-30BCD048E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A3446-C763-4BF8-8971-7CBE66F86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03B80-038F-4580-9891-89EA88E51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4D075-C77A-4828-B40F-D6B677A60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7B956-92BC-4A81-A4A4-F132EFE3B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C7426-DA1E-4350-AD9E-CFC88CC45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F6CA5C-2300-4306-B75F-31DC81119A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F13D-A0C4-4FAC-A211-1E7153736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D34612-23BC-4E8E-BA5A-B8CF886DEC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32A7-5787-4685-8046-86B4C443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ED9E-CC57-4D66-9871-E6555249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C9BF-EA76-4F34-8515-48ABD6185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561C-9C42-4592-8901-1BF352C5E274}"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E279-8693-4D0B-9512-69778B39BBC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9"/>
          <p:cNvGrpSpPr/>
          <p:nvPr/>
        </p:nvGrpSpPr>
        <p:grpSpPr>
          <a:xfrm>
            <a:off x="66600" y="66600"/>
            <a:ext cx="9016920" cy="6699240"/>
            <a:chOff x="66600" y="66600"/>
            <a:chExt cx="9016920" cy="6699240"/>
          </a:xfrm>
        </p:grpSpPr>
        <p:pic>
          <p:nvPicPr>
            <p:cNvPr id="91" name="Скругленный прямоугольник 9"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FCC8-821E-4413-92CA-49A612EA790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9025-3961-4937-BC7B-0E8BC4BF1029}"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675C-8B38-45A6-A8C5-49FAFDA85344}"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55700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0c0c"/>
                </a:solidFill>
                <a:latin typeface="Calibri"/>
              </a:rPr>
              <a:t>H</a:t>
            </a:r>
            <a:r>
              <a:rPr b="0" lang="ru-RU" sz="4000" spc="-1" strike="noStrike">
                <a:solidFill>
                  <a:srgbClr val="0c0c0c"/>
                </a:solidFill>
                <a:latin typeface="Calibri"/>
              </a:rPr>
              <a:t>alloween</a:t>
            </a:r>
            <a:r>
              <a:rPr b="0" lang="ru-RU" sz="4000" spc="-1" strike="noStrike">
                <a:solidFill>
                  <a:srgbClr val="696464"/>
                </a:solidFill>
                <a:latin typeface="Calibri"/>
              </a:rPr>
              <a:t> </a:t>
            </a:r>
            <a:endParaRPr b="0" lang="en-US" sz="4000" spc="-1" strike="noStrike">
              <a:solidFill>
                <a:srgbClr val="696464"/>
              </a:solidFill>
              <a:latin typeface="Calibri"/>
            </a:endParaRPr>
          </a:p>
        </p:txBody>
      </p:sp>
    </p:spTree>
  </p:cSld>
  <p:transition>
    <p:dissolve/>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1155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Calibri"/>
              </a:rPr>
              <a:t>Животные тоже празднуют</a:t>
            </a:r>
            <a:r>
              <a:rPr b="1" lang="ru-RU" sz="4000" spc="-1" strike="noStrike">
                <a:solidFill>
                  <a:srgbClr val="c00000"/>
                </a:solidFill>
                <a:latin typeface="Calibri"/>
              </a:rPr>
              <a:t> </a:t>
            </a:r>
            <a:br>
              <a:rPr sz="3600"/>
            </a:br>
            <a:r>
              <a:rPr b="1" lang="ru-RU" sz="3600" spc="-1" strike="noStrike">
                <a:solidFill>
                  <a:srgbClr val="c00000"/>
                </a:solidFill>
                <a:latin typeface="Calibri"/>
              </a:rPr>
              <a:t> ХЭЛЛОУИН</a:t>
            </a:r>
            <a:endParaRPr b="0" lang="en-US" sz="3600" spc="-1" strike="noStrike">
              <a:solidFill>
                <a:srgbClr val="696464"/>
              </a:solidFill>
              <a:latin typeface="Calibri"/>
            </a:endParaRPr>
          </a:p>
        </p:txBody>
      </p:sp>
      <p:pic>
        <p:nvPicPr>
          <p:cNvPr id="261" name="Picture 2" descr="C:\Users\Алина\Pictures\dog-pumpkin-10.jpg"/>
          <p:cNvPicPr/>
          <p:nvPr/>
        </p:nvPicPr>
        <p:blipFill>
          <a:blip r:embed="rId1"/>
          <a:stretch/>
        </p:blipFill>
        <p:spPr>
          <a:xfrm>
            <a:off x="324000" y="1052640"/>
            <a:ext cx="8496000" cy="5688000"/>
          </a:xfrm>
          <a:prstGeom prst="rect">
            <a:avLst/>
          </a:prstGeom>
          <a:ln w="0">
            <a:noFill/>
          </a:ln>
        </p:spPr>
      </p:pic>
    </p:spTree>
  </p:cSld>
  <p:transition advTm="5000">
    <p:dissolve/>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Calibri"/>
            </a:endParaRPr>
          </a:p>
        </p:txBody>
      </p:sp>
      <p:pic>
        <p:nvPicPr>
          <p:cNvPr id="263" name="Picture 2" descr="C:\Users\Алина\Pictures\50560325_halloween.jpg"/>
          <p:cNvPicPr/>
          <p:nvPr/>
        </p:nvPicPr>
        <p:blipFill>
          <a:blip r:embed="rId1"/>
          <a:stretch/>
        </p:blipFill>
        <p:spPr>
          <a:xfrm>
            <a:off x="0" y="0"/>
            <a:ext cx="9144000" cy="6858000"/>
          </a:xfrm>
          <a:prstGeom prst="rect">
            <a:avLst/>
          </a:prstGeom>
          <a:ln w="0">
            <a:noFill/>
          </a:ln>
        </p:spPr>
      </p:pic>
    </p:spTree>
  </p:cSld>
  <p:transition advTm="6000">
    <p:dissolv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Calibri"/>
            </a:endParaRPr>
          </a:p>
        </p:txBody>
      </p:sp>
      <p:pic>
        <p:nvPicPr>
          <p:cNvPr id="237" name="Picture 2" descr="C:\Users\Алина\Pictures\загруженное.jpg"/>
          <p:cNvPicPr/>
          <p:nvPr/>
        </p:nvPicPr>
        <p:blipFill>
          <a:blip r:embed="rId1"/>
          <a:stretch/>
        </p:blipFill>
        <p:spPr>
          <a:xfrm>
            <a:off x="0" y="0"/>
            <a:ext cx="9144000" cy="6858000"/>
          </a:xfrm>
          <a:prstGeom prst="rect">
            <a:avLst/>
          </a:prstGeom>
          <a:ln w="0">
            <a:noFill/>
          </a:ln>
        </p:spPr>
      </p:pic>
    </p:spTree>
  </p:cSld>
  <p:transition advTm="2000">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42206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be007"/>
                </a:solidFill>
                <a:latin typeface="Calibri"/>
              </a:rPr>
              <a:t>Что такое хэллоуин</a:t>
            </a:r>
            <a:r>
              <a:rPr b="0" lang="en-US" sz="4000" spc="-1" strike="noStrike">
                <a:solidFill>
                  <a:srgbClr val="ebe007"/>
                </a:solidFill>
                <a:latin typeface="Franklin Gothic Book"/>
              </a:rPr>
              <a:t> ?</a:t>
            </a:r>
            <a:endParaRPr b="0" lang="en-US" sz="4000" spc="-1" strike="noStrike">
              <a:solidFill>
                <a:srgbClr val="696464"/>
              </a:solidFill>
              <a:latin typeface="Calibri"/>
            </a:endParaRPr>
          </a:p>
        </p:txBody>
      </p:sp>
      <p:sp>
        <p:nvSpPr>
          <p:cNvPr id="239" name=""/>
          <p:cNvSpPr txBox="1"/>
          <p:nvPr/>
        </p:nvSpPr>
        <p:spPr>
          <a:xfrm>
            <a:off x="250920" y="5373360"/>
            <a:ext cx="7843680" cy="12970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be007"/>
                </a:solidFill>
                <a:latin typeface="Cambria"/>
              </a:rPr>
              <a:t>Хэллоуин - это канун дня Всех Святых. Отмечают его 31 октября. Этот праздник праздную больше всего в США, для них это практически, как первое апреля. Но в России он не особо распространен. </a:t>
            </a:r>
            <a:endParaRPr b="0" lang="en-US" sz="2000" spc="-1" strike="noStrike">
              <a:solidFill>
                <a:srgbClr val="000000"/>
              </a:solidFill>
              <a:latin typeface="Cambria"/>
            </a:endParaRPr>
          </a:p>
        </p:txBody>
      </p:sp>
      <p:sp>
        <p:nvSpPr>
          <p:cNvPr id="240" name="Rectangle 3"/>
          <p:cNvSpPr/>
          <p:nvPr/>
        </p:nvSpPr>
        <p:spPr>
          <a:xfrm>
            <a:off x="826920" y="1413000"/>
            <a:ext cx="69120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Halloween - this is the eve of All Saints. Celebrating its 31 October. This holiday is celebrated more in the U.S., for them it's almost like the first of April. But in Russia it is not very common.</a:t>
            </a:r>
            <a:endParaRPr b="0" lang="en-US" sz="2800" spc="-1" strike="noStrike">
              <a:solidFill>
                <a:srgbClr val="000000"/>
              </a:solidFill>
              <a:latin typeface="Arial"/>
            </a:endParaRPr>
          </a:p>
        </p:txBody>
      </p:sp>
      <p:sp>
        <p:nvSpPr>
          <p:cNvPr id="241" name="Rectangle 4"/>
          <p:cNvSpPr/>
          <p:nvPr/>
        </p:nvSpPr>
        <p:spPr>
          <a:xfrm>
            <a:off x="1911960" y="403920"/>
            <a:ext cx="50086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What is Halloween?</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70000">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Calibri"/>
            </a:endParaRPr>
          </a:p>
        </p:txBody>
      </p:sp>
      <p:pic>
        <p:nvPicPr>
          <p:cNvPr id="243" name="Picture 2" descr="C:\Users\Алина\Pictures\halloween.jpg"/>
          <p:cNvPicPr/>
          <p:nvPr/>
        </p:nvPicPr>
        <p:blipFill>
          <a:blip r:embed="rId1"/>
          <a:stretch/>
        </p:blipFill>
        <p:spPr>
          <a:xfrm>
            <a:off x="0" y="0"/>
            <a:ext cx="9144000" cy="6858000"/>
          </a:xfrm>
          <a:prstGeom prst="rect">
            <a:avLst/>
          </a:prstGeom>
          <a:ln w="0">
            <a:noFill/>
          </a:ln>
        </p:spPr>
      </p:pic>
    </p:spTree>
  </p:cSld>
  <p:transition advTm="5000">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11040" y="306828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be007"/>
                </a:solidFill>
                <a:latin typeface="Calibri"/>
              </a:rPr>
              <a:t>Краткая история праздника</a:t>
            </a:r>
            <a:endParaRPr b="0" lang="en-US" sz="3200" spc="-1" strike="noStrike">
              <a:solidFill>
                <a:srgbClr val="696464"/>
              </a:solidFill>
              <a:latin typeface="Calibri"/>
            </a:endParaRPr>
          </a:p>
        </p:txBody>
      </p:sp>
      <p:sp>
        <p:nvSpPr>
          <p:cNvPr id="245" name=""/>
          <p:cNvSpPr txBox="1"/>
          <p:nvPr/>
        </p:nvSpPr>
        <p:spPr>
          <a:xfrm>
            <a:off x="311040" y="407664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1800" spc="-1" strike="noStrike">
                <a:solidFill>
                  <a:srgbClr val="ebe007"/>
                </a:solidFill>
                <a:latin typeface="Cambria"/>
              </a:rPr>
              <a:t>Первым пилигримам этого континента были хорошо известны оккультные корни Хэллоуина. К вашему сведению, они запретили празднование Хэллоуина в Америке. В США этот праздник был вне закона до 1845. После этого года Америку наводнили иммигранты из Ирландии, бежавшие из Европы после так называемого Картофельного Голода 1845-46 годов. Они-то и привезли с собой старинный праздник Друидов – Хэллоуин. Со временем празднование Хэллоуина распространилось на всю страну и континент. </a:t>
            </a:r>
            <a:br>
              <a:rPr sz="1800"/>
            </a:br>
            <a:r>
              <a:rPr b="0" lang="ru-RU" sz="1800" spc="-1" strike="noStrike">
                <a:solidFill>
                  <a:srgbClr val="ebe007"/>
                </a:solidFill>
                <a:latin typeface="Cambria"/>
              </a:rPr>
              <a:t> </a:t>
            </a:r>
            <a:endParaRPr b="0" lang="en-US" sz="1800" spc="-1" strike="noStrike">
              <a:solidFill>
                <a:srgbClr val="000000"/>
              </a:solidFill>
              <a:latin typeface="Cambria"/>
            </a:endParaRPr>
          </a:p>
        </p:txBody>
      </p:sp>
      <p:sp>
        <p:nvSpPr>
          <p:cNvPr id="246" name="Rectangle 4"/>
          <p:cNvSpPr/>
          <p:nvPr/>
        </p:nvSpPr>
        <p:spPr>
          <a:xfrm>
            <a:off x="755640" y="993960"/>
            <a:ext cx="77119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The first pilgrims of this continent were well known to the occult roots of Halloween. For your information, they banned the celebration of Halloween in America. In the U.S., this holiday was outlawed until 1845. After this year, America invaded immigrants from Ireland, who had escaped from Europe after the so-called Potato Famine 1845-46 period. It was they who brought ancient Druidic holiday - Halloween. Over time, the celebration of Halloween has spread throughout the country and the continent.</a:t>
            </a:r>
            <a:endParaRPr b="0" lang="en-US" sz="2000" spc="-1" strike="noStrike">
              <a:solidFill>
                <a:srgbClr val="000000"/>
              </a:solidFill>
              <a:latin typeface="Arial"/>
            </a:endParaRPr>
          </a:p>
        </p:txBody>
      </p:sp>
      <p:sp>
        <p:nvSpPr>
          <p:cNvPr id="247" name="Rectangle 5"/>
          <p:cNvSpPr/>
          <p:nvPr/>
        </p:nvSpPr>
        <p:spPr>
          <a:xfrm>
            <a:off x="1908360" y="475560"/>
            <a:ext cx="457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A brief history of the holiday</a:t>
            </a:r>
            <a:endParaRPr b="0" lang="en-US" sz="2800" spc="-1" strike="noStrike">
              <a:solidFill>
                <a:srgbClr val="000000"/>
              </a:solidFill>
              <a:latin typeface="Arial"/>
            </a:endParaRPr>
          </a:p>
        </p:txBody>
      </p:sp>
    </p:spTree>
  </p:cSld>
  <p:transition spd="slow" advTm="130000">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Calibri"/>
            </a:endParaRPr>
          </a:p>
        </p:txBody>
      </p:sp>
      <p:pic>
        <p:nvPicPr>
          <p:cNvPr id="249" name="Picture 2" descr="C:\Users\Алина\Pictures\50555692_800x600_1231045000_Halloween.jpg"/>
          <p:cNvPicPr/>
          <p:nvPr/>
        </p:nvPicPr>
        <p:blipFill>
          <a:blip r:embed="rId1"/>
          <a:stretch/>
        </p:blipFill>
        <p:spPr>
          <a:xfrm>
            <a:off x="0" y="0"/>
            <a:ext cx="9144000" cy="6858000"/>
          </a:xfrm>
          <a:prstGeom prst="rect">
            <a:avLst/>
          </a:prstGeom>
          <a:ln w="0">
            <a:noFill/>
          </a:ln>
        </p:spPr>
      </p:pic>
    </p:spTree>
  </p:cSld>
  <p:transition advTm="5000">
    <p:dissolve/>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be007"/>
                </a:solidFill>
                <a:latin typeface="Calibri"/>
              </a:rPr>
              <a:t>Краткая история праздника</a:t>
            </a:r>
            <a:endParaRPr b="0" lang="en-US" sz="2800" spc="-1" strike="noStrike">
              <a:solidFill>
                <a:srgbClr val="696464"/>
              </a:solidFill>
              <a:latin typeface="Calibri"/>
            </a:endParaRPr>
          </a:p>
        </p:txBody>
      </p:sp>
      <p:sp>
        <p:nvSpPr>
          <p:cNvPr id="251" name=""/>
          <p:cNvSpPr txBox="1"/>
          <p:nvPr/>
        </p:nvSpPr>
        <p:spPr>
          <a:xfrm>
            <a:off x="324000" y="4581000"/>
            <a:ext cx="7426080" cy="2087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be007"/>
                </a:solidFill>
                <a:latin typeface="Cambria"/>
              </a:rPr>
              <a:t>Но чтобы понять смысл Хэллоуина, необходимо ещё больше углубиться в историю. Мне удалось обнаружить, что в оригинале этот праздник назывался совсем иначе. Он зародился среди кельтских народов (Бретонцев, Галлов, Шотландцев и Ирландцев) задолго до рождества Христова. У этих народов была традиция – праздновать конец лета, принося жертвы своему богу Саману (Со-вейну). Он был "господином смерти и злых духов". В этот день праздновалось начало Нового Года кельтов.</a:t>
            </a:r>
            <a:endParaRPr b="0" lang="en-US" sz="1600" spc="-1" strike="noStrike">
              <a:solidFill>
                <a:srgbClr val="000000"/>
              </a:solidFill>
              <a:latin typeface="Cambria"/>
            </a:endParaRPr>
          </a:p>
        </p:txBody>
      </p:sp>
      <p:sp>
        <p:nvSpPr>
          <p:cNvPr id="252" name="Rectangle 3"/>
          <p:cNvSpPr/>
          <p:nvPr/>
        </p:nvSpPr>
        <p:spPr>
          <a:xfrm>
            <a:off x="539640" y="1482840"/>
            <a:ext cx="806616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But to understand the meaning of Halloween, you need to delve further into the story. I have found that in the original this holiday was called quite differently. It originated among the Celtic peoples (Bretons, Gauls, Scots and Irish) long before the birth of Christ. These people had a tradition - to celebrate the end of summer, offering sacrifices to their god Samana (Wayne Co). He was the "lord of death and evil spirits." On this day, we celebrated the beginning of the Celtic New Year.</a:t>
            </a:r>
            <a:endParaRPr b="0" lang="en-US" sz="2000" spc="-1" strike="noStrike">
              <a:solidFill>
                <a:srgbClr val="000000"/>
              </a:solidFill>
              <a:latin typeface="Arial"/>
            </a:endParaRPr>
          </a:p>
        </p:txBody>
      </p:sp>
      <p:sp>
        <p:nvSpPr>
          <p:cNvPr id="253" name="Rectangle 5"/>
          <p:cNvSpPr/>
          <p:nvPr/>
        </p:nvSpPr>
        <p:spPr>
          <a:xfrm>
            <a:off x="1472760" y="691200"/>
            <a:ext cx="586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A brief history of the holiday.</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130000">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696464"/>
              </a:solidFill>
              <a:latin typeface="Calibri"/>
            </a:endParaRPr>
          </a:p>
        </p:txBody>
      </p:sp>
      <p:pic>
        <p:nvPicPr>
          <p:cNvPr id="255" name="Picture 2" descr="C:\Users\Алина\Pictures\1256388626_9.jpg"/>
          <p:cNvPicPr/>
          <p:nvPr/>
        </p:nvPicPr>
        <p:blipFill>
          <a:blip r:embed="rId1"/>
          <a:stretch/>
        </p:blipFill>
        <p:spPr>
          <a:xfrm>
            <a:off x="0" y="0"/>
            <a:ext cx="9144000" cy="6858000"/>
          </a:xfrm>
          <a:prstGeom prst="rect">
            <a:avLst/>
          </a:prstGeom>
          <a:ln w="0">
            <a:noFill/>
          </a:ln>
        </p:spPr>
      </p:pic>
    </p:spTree>
  </p:cSld>
  <p:transition advTm="5000">
    <p:dissolve/>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e007"/>
                </a:solidFill>
                <a:latin typeface="Calibri"/>
              </a:rPr>
              <a:t>ПРОИСХОЖДЕНИЕ НАЗВАНИЯ «ХЭЛЛОУИН»</a:t>
            </a:r>
            <a:endParaRPr b="0" lang="en-US" sz="2400" spc="-1" strike="noStrike">
              <a:solidFill>
                <a:srgbClr val="696464"/>
              </a:solidFill>
              <a:latin typeface="Calibri"/>
            </a:endParaRPr>
          </a:p>
        </p:txBody>
      </p:sp>
      <p:sp>
        <p:nvSpPr>
          <p:cNvPr id="257" name=""/>
          <p:cNvSpPr txBox="1"/>
          <p:nvPr/>
        </p:nvSpPr>
        <p:spPr>
          <a:xfrm>
            <a:off x="395280" y="5229000"/>
            <a:ext cx="7129440" cy="143964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be007"/>
                </a:solidFill>
                <a:latin typeface="Cambria"/>
              </a:rPr>
              <a:t> </a:t>
            </a:r>
            <a:r>
              <a:rPr b="0" lang="ru-RU" sz="2000" spc="-1" strike="noStrike">
                <a:solidFill>
                  <a:srgbClr val="ebe007"/>
                </a:solidFill>
                <a:latin typeface="Cambria"/>
              </a:rPr>
              <a:t>Как было сказано выше, раньше этот праздник имел совсем другое название: "Бдение Самана". В древней Британии Саман назывался Со-вэйн. Как же этот праздник приобрёл сегодняшнее имя – Хэллоуин.</a:t>
            </a:r>
            <a:endParaRPr b="0" lang="en-US" sz="2000" spc="-1" strike="noStrike">
              <a:solidFill>
                <a:srgbClr val="000000"/>
              </a:solidFill>
              <a:latin typeface="Cambria"/>
            </a:endParaRPr>
          </a:p>
        </p:txBody>
      </p:sp>
      <p:sp>
        <p:nvSpPr>
          <p:cNvPr id="258" name="Rectangle 4"/>
          <p:cNvSpPr/>
          <p:nvPr/>
        </p:nvSpPr>
        <p:spPr>
          <a:xfrm>
            <a:off x="324000" y="1915920"/>
            <a:ext cx="8489880" cy="1861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As mentioned above, before the holiday had a different name: "Vigil of Samana." In ancient Britain called Saman Co-Wayne. How did this holiday today acquired the name - Halloween.</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59" name="Rectangle 5"/>
          <p:cNvSpPr/>
          <p:nvPr/>
        </p:nvSpPr>
        <p:spPr>
          <a:xfrm>
            <a:off x="326880" y="764640"/>
            <a:ext cx="8439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Arial"/>
              </a:rPr>
              <a:t>ORIGIN OF THE NAME "HALLOWEEN"</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0000">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28:35Z</dcterms:created>
  <dc:creator>Алина</dc:creator>
  <dc:description/>
  <dc:language>en-US</dc:language>
  <cp:lastModifiedBy>teach</cp:lastModifiedBy>
  <dcterms:modified xsi:type="dcterms:W3CDTF">2013-11-01T05:04:07Z</dcterms:modified>
  <cp:revision>9</cp:revision>
  <dc:subject/>
  <dc:title>ХЭЛЛОУИН</dc:title>
</cp:coreProperties>
</file>