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1C3-4412-4EDD-9584-05F03653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385-65CE-4163-9FF6-ED045DF5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46B-0C40-4E62-B3E9-64C435E8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1F6-DDBF-4E9D-AA94-AD72A5AC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492-8B60-4AC2-92A3-569A50BC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60B-267E-495B-A242-F4FA2BA1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79A-9F8C-427A-9E60-898AD03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B57-2611-4202-9ABC-B90A995B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C82-4E07-4EDA-9949-E65196D1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563-F515-4E99-A952-96928C2D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5A1-ED59-4470-B099-4D1DCC46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8B0-4789-48D3-946C-D934FF5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48A6-1F8B-4874-A632-4BD466195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24000" y="115920"/>
            <a:ext cx="792000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чинение-опис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картине И.Т. Хруцко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Цветы и плоды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2" name="Picture 5" descr="h01024i"/>
          <p:cNvPicPr/>
          <p:nvPr/>
        </p:nvPicPr>
        <p:blipFill>
          <a:blip r:embed="rId1"/>
          <a:stretch/>
        </p:blipFill>
        <p:spPr>
          <a:xfrm>
            <a:off x="3059280" y="4292640"/>
            <a:ext cx="3313080" cy="194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ебристо-медного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онзово-ме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незатейливым орнаментом и рельефным рисун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рельефным орнамен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1763640" y="260280"/>
            <a:ext cx="5400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з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ородина блестящая, красная, нежно-розовая, беж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жёлтая тыква, словно поделённая на продолговатые до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ики насыщенно-желтого цвета в плетеном лукошке выглядят очень соч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5"/>
          <p:cNvSpPr txBox="1"/>
          <p:nvPr/>
        </p:nvSpPr>
        <p:spPr>
          <a:xfrm>
            <a:off x="1692360" y="62064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л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8"/>
          <p:cNvSpPr txBox="1"/>
          <p:nvPr/>
        </p:nvSpPr>
        <p:spPr>
          <a:xfrm>
            <a:off x="2916360" y="260280"/>
            <a:ext cx="345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од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9"/>
          <p:cNvSpPr txBox="1"/>
          <p:nvPr/>
        </p:nvSpPr>
        <p:spPr>
          <a:xfrm>
            <a:off x="468360" y="2349360"/>
            <a:ext cx="381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ахарные груши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5076720" y="1700280"/>
            <a:ext cx="35276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Янтарные грозди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иноград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WordArt 11"/>
          <p:cNvSpPr txBox="1"/>
          <p:nvPr/>
        </p:nvSpPr>
        <p:spPr>
          <a:xfrm>
            <a:off x="4716360" y="4005360"/>
            <a:ext cx="3816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моны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атово-желтог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ве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:\Users\User\Desktop\цветы и плоды фото.jpg"/>
          <p:cNvPicPr/>
          <p:nvPr/>
        </p:nvPicPr>
        <p:blipFill>
          <a:blip r:embed="rId1"/>
          <a:stretch/>
        </p:blipFill>
        <p:spPr>
          <a:xfrm>
            <a:off x="1476360" y="1143000"/>
            <a:ext cx="619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395280" y="692280"/>
            <a:ext cx="835344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Натюрморт (в переводе с франц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"мертвая природа") -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картина с изображен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крупным плано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редметов: цветов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битой дичи, рыбы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"/>
              </a:rPr>
              <a:t>утвар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едно-розовые, светло-желтые, белые, ярко-красного цвета, порою переходящего в борд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вух пионов, наклонивших свои головки к стакану, можно заметить несколько бело-желтых прожи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ы напоминают меховую шапку: мохнатые и даже немного кучерявые лепестки цветка во многом способствуют эт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826920" y="33336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он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рко-желтого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удожник выписывает каждый лепес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ок хрупкий и раним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 жёлтых, как два солнышка, нарциссов. Они словно излучают свет и придают радостное, летнее настроение бук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1619280" y="260280"/>
            <a:ext cx="5761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рцисс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хожи на маленькие звезд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 нежно-сиреневый, переходящий в синий, заканчивающийся бе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619280" y="26028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ацинт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жно-фиолетовые, изящ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пестки продолговатые, расширенные книзу, а в центре словно маленький пушистый комоч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колепные бархатные ирисы, выделяющиеся  необычной формой и сиреневатой окра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2050920" y="260280"/>
            <a:ext cx="489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ри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омные ярко-си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е-голуб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кие хрупкие стебли, маленькие кругловатые головки, похожие на ши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1908000" y="260280"/>
            <a:ext cx="504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асиль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олотистого ц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хожи на туго заплетенные к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2195640" y="260280"/>
            <a:ext cx="4752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лось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09:47:28Z</dcterms:created>
  <dc:creator>teacher</dc:creator>
  <dc:description/>
  <dc:language>en-US</dc:language>
  <cp:lastModifiedBy>User</cp:lastModifiedBy>
  <dcterms:modified xsi:type="dcterms:W3CDTF">2013-12-03T07:49:30Z</dcterms:modified>
  <cp:revision>34</cp:revision>
  <dc:subject/>
  <dc:title>Слайд 1</dc:title>
</cp:coreProperties>
</file>