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D207-8640-498F-B984-1E4D99129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FFEA-95BD-4A90-BF10-2C764FF5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7673-D871-44A7-8D7D-9222EBA97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1301-CC5B-45BE-A2A2-1A8F01DA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DFC5-09DC-49AB-B9F1-38AF41D6D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D44C-BCDF-4E2F-A401-8938A445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230D-E9E4-4E19-8C8C-99BAF0D2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1951-C16A-4E1F-BB58-21EA71FE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A787-B6C5-4FE4-A4F8-0DFD7E18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BF69-D5E2-4488-9FC6-B961C99D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5603-B202-4AA2-9468-9C2A3A72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C051-8304-45F5-A2C1-97779EC6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3BC5-1CDE-4389-A699-60A39B50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B59F-2001-4357-9CB7-A3423928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26CF-8C00-4BE8-BAC6-1209BF09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95CE-50BC-4D6B-850B-701D1677F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C9EE-05B3-41E2-8E86-AEE37065A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FE40-63DA-44DE-8F43-085ABF3A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5A07-345D-4C0D-BA84-DC69C07F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520A-0976-41F4-86F7-8F01C226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1910-C59E-4FCC-842A-DB690536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7BFA-4548-4169-85D2-1A0B5DF5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C2F9-710A-4EE3-B3F5-090F861B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6B2D-2739-45D1-B5F3-F0956E64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ACD7-17FE-4634-A264-50B140B353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A9E1-D5D6-4E7C-8584-EA6677659C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38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eec94"/>
                </a:solidFill>
                <a:latin typeface="Times New Roman"/>
              </a:rPr>
              <a:t>«Русские сезоны» в Париже</a:t>
            </a:r>
            <a:br>
              <a:rPr sz="7200"/>
            </a:br>
            <a:r>
              <a:rPr b="1" i="1" lang="en-US" sz="7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eec94"/>
                </a:solidFill>
                <a:latin typeface="Sylfaen"/>
              </a:rPr>
              <a:t>Презентация подготовлена </a:t>
            </a:r>
            <a:br>
              <a:rPr sz="1800"/>
            </a:br>
            <a:r>
              <a:rPr b="0" i="1" lang="en-US" sz="1800" spc="-1" strike="noStrike">
                <a:solidFill>
                  <a:srgbClr val="feec94"/>
                </a:solidFill>
                <a:latin typeface="Sylfaen"/>
              </a:rPr>
              <a:t>учителем МХК МБУ СОШ № 80 г.о.Тольятти </a:t>
            </a:r>
            <a:br>
              <a:rPr sz="1800"/>
            </a:br>
            <a:r>
              <a:rPr b="0" i="1" lang="en-US" sz="1800" spc="-1" strike="noStrike">
                <a:solidFill>
                  <a:srgbClr val="feec94"/>
                </a:solidFill>
                <a:latin typeface="Sylfaen"/>
              </a:rPr>
              <a:t> Ериной Ларисой Викторовной</a:t>
            </a:r>
            <a:br>
              <a:rPr sz="1800"/>
            </a:br>
            <a:br>
              <a:rPr sz="1800"/>
            </a:br>
            <a:r>
              <a:rPr b="0" i="1" lang="en-US" sz="1800" spc="-1" strike="noStrike">
                <a:solidFill>
                  <a:srgbClr val="feec94"/>
                </a:solidFill>
                <a:latin typeface="Sylfaen"/>
              </a:rPr>
              <a:t>2013г.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919160" y="189000"/>
            <a:ext cx="5241960" cy="5832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700360" y="6021360"/>
            <a:ext cx="49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Анна Павлов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964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Балет «Петрушка» Игоря Фёдоровича Стравинского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124000" y="189000"/>
            <a:ext cx="4918320" cy="5400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979640" y="580536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Игорь Стравинск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524720" y="5157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40300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44840" y="476280"/>
            <a:ext cx="4054320" cy="5905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762280" y="571680"/>
            <a:ext cx="361944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343240" y="260280"/>
            <a:ext cx="45082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eec94"/>
                </a:solidFill>
                <a:latin typeface="Times New Roman"/>
              </a:rPr>
              <a:t>«Русские сезоны»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6000" y="1483920"/>
            <a:ext cx="75708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eec94"/>
                </a:solidFill>
                <a:latin typeface="Times New Roman"/>
              </a:rPr>
              <a:t>              </a:t>
            </a:r>
            <a:r>
              <a:rPr b="1" lang="en-US" sz="6600" spc="-1" strike="noStrike">
                <a:solidFill>
                  <a:srgbClr val="feec94"/>
                </a:solidFill>
                <a:latin typeface="Times New Roman"/>
              </a:rPr>
              <a:t>это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eec94"/>
                </a:solidFill>
                <a:latin typeface="Times New Roman"/>
              </a:rPr>
              <a:t>гастроли русской оперы и балета в Париже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140360" y="189000"/>
            <a:ext cx="4754520" cy="5400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859280" y="5734080"/>
            <a:ext cx="63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Сергей Дягиле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-46080" y="260280"/>
            <a:ext cx="4394160" cy="5400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79280" y="5950080"/>
            <a:ext cx="43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Михаил Фоки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54360" y="0"/>
            <a:ext cx="4949640" cy="5950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332000" y="595008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Н.А.Римский - Корсак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12840" y="189000"/>
            <a:ext cx="4853160" cy="5400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979640" y="5754600"/>
            <a:ext cx="59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Сергей Рахманин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12840" y="260280"/>
            <a:ext cx="4851360" cy="5400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050920" y="5826240"/>
            <a:ext cx="48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Александр Бену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Times New Roman"/>
              </a:rPr>
              <a:t>Николай Рерих.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Times New Roman"/>
              </a:rPr>
              <a:t>Александр Головин.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178000" y="189000"/>
            <a:ext cx="4919760" cy="5545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050920" y="5970600"/>
            <a:ext cx="59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Вацлав Нижинск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982880" y="189000"/>
            <a:ext cx="5176800" cy="5761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908000" y="6021360"/>
            <a:ext cx="522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Тамара Карсави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3T13:25:52Z</dcterms:created>
  <dc:creator>дом</dc:creator>
  <dc:description/>
  <dc:language>en-US</dc:language>
  <cp:lastModifiedBy>User</cp:lastModifiedBy>
  <dcterms:modified xsi:type="dcterms:W3CDTF">2013-06-06T06:43:20Z</dcterms:modified>
  <cp:revision>38</cp:revision>
  <dc:subject/>
  <dc:title>Слайд 1</dc:title>
</cp:coreProperties>
</file>