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832-78ED-429A-8BB3-C204E50B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E958-22C4-4146-8376-F701A95D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60F-9AD2-443F-9A19-F2DAAA58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DCA-A019-48DA-A9D1-C30FA0B4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BE1C-AFAD-42D6-8776-BA5C7592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E018-D96B-4F12-9B9F-57772CC5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C804-29E0-44E3-9001-80911A40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55FF-9BCE-41A1-81D6-DBDCA406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293B-537D-44A6-B5D7-59E3733F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2307-96E1-46F3-83C9-48193A1C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CFF6-5AF1-4245-9796-E07749BF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B9E-E7E9-4F2F-9399-3FF7E0B1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53AF-A994-49FD-BF7D-54FEE99E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D982-CFA7-42FA-9AE8-204CC31F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6542-B443-407E-AE9A-EA1AC9D8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B6E0-6EF6-48AD-9A58-D79A5B35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541A-AFBC-4A6A-824A-00167A83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1283A-138A-4D57-A283-79ADAE54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55133-3E38-4EAF-AD65-ACA49A3C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259E0-398F-449B-8B95-0BDB59A5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77495-DA84-41DF-8160-D2D29106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4AA1D-5FAD-4AFC-81A0-4D39A5D5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4B3-F828-4400-A065-F9E30B13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2624-1C17-4C53-97A3-7C84DD14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79CAD-A6CF-4005-AEBE-52A8FFA3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36E02-01BF-476D-865D-B8687FE8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43967-7236-46D0-BBC1-07FFABFC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90051-EE84-46FC-AE06-A8F036AE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CDB30-0C68-40D6-81DA-92FBC9E7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7A65-4480-4F13-BBD2-DBBE16E4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4BA69-6EED-4506-8EBC-8381ECEE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20961-1909-4649-B5CD-B88AD8AC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077ED-93DA-422D-AF39-8D5B4F0E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C5F-6671-49BE-B5F7-3BC7D420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EF3FB-0C50-4C89-B700-942BB014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010F7-B453-4536-BA6C-0A1B94DA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0DC1C-5B07-4E07-B4BA-84A2B928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EE933-E5E5-45A4-8819-303228A9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626C0-DE70-4AE7-A373-F31E69BC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281EF-D62A-4950-8F65-2C81DCBB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4AE90-B7D2-41E0-97D2-BC384026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C6296-3C89-4959-B2E8-E608AB43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FBA4B-3E78-4DFF-925D-F067FEF5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484EE-6BDF-4927-AC25-552992E3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8FD-465B-4629-B090-865A1D23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3CF70-95B1-4358-97A4-E290C37A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C95D3-1ECA-409B-BFCF-08C385E6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C04D-601A-4249-84D4-5C594EEA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18022-5364-4365-9E45-82E9999C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E98F1-7C65-4E48-89B3-2152047D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1B0A1-3F05-4320-BE76-56571D17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0A714-2AE5-45DA-97A4-B350FD41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1787B-FF8A-47B8-BA37-7CAA1B1E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28E89-8966-4130-8E5A-EFBC7DC6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30624-7BC8-4516-8A67-AE0A7E4C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9B2-6C9C-4FFD-B0C9-E4267A8C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FBAE2-F898-4F36-97BE-50671C26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F5AC8-A767-4582-8F47-7B0E70DD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F8B89-2A92-4328-91EB-5D8E18F4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04CE8-4251-49D6-9648-B6A13B37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83F9D-D288-4A53-A978-3E14E06A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9D7E5-F1DB-4966-B778-9DB94683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4847A-1A65-462C-8162-70EB1653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CB002-9A1C-4A6C-9E82-3B255CE6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7358E-9A5C-41FF-8447-D6FEC420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59192-82B9-4508-8FDE-8649CFB6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D31-7C7D-47B8-9C26-9528EB20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989B5-709E-4D63-A50D-E2DEFD2B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CD006-9087-4571-82D7-9E963F93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187F9-75E3-4681-9FF7-54C065CF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E19BA-69A1-43DA-A191-2B45413A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204C1-013C-4536-8A57-83939505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E35E2-AA15-4D91-A9E0-29C88545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9A8F6-0622-481A-8388-F8002837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9AE95-4CD7-487F-BADA-08C7BE05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F879C-DF38-4BF9-9C50-583EC146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BFB64-F5E5-48F1-B5F3-C073531E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3D0-7838-4AC2-ADE3-68DABAC5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A3F3D-7534-4053-A6F6-8A848FB7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89490-7826-4446-9702-914A21C1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C009F-CA26-4A4F-818C-FEC834FA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60620-9744-49BD-9592-DA6D27D0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3F684-173A-45C9-B685-9240F667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8F8-AEA7-447B-9945-100B2484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A29D-476C-4279-91E1-077C67BD58DC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556D-D53B-47F4-AC1E-9DE8E62792B9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20DB-88BD-45BA-8215-001B1E5E5B3A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F575-74B6-42A3-955E-C5D6FF4C14AA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07BC-A7F4-4219-A649-DCB4D1DB5F61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FE21-36F9-47C3-8E83-F679320D116F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8052-1BA5-4BAA-8314-4C81E5BFC3D5}" type="slidenum">
              <a:rPr b="0" lang="ru-RU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8208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95a74"/>
                </a:solidFill>
                <a:latin typeface="Corbel"/>
              </a:rPr>
              <a:t>Искусство «</a:t>
            </a:r>
            <a:r>
              <a:rPr b="1" i="1" lang="en-US" sz="2800" spc="-1" strike="noStrike">
                <a:solidFill>
                  <a:srgbClr val="495a74"/>
                </a:solidFill>
                <a:latin typeface="Arial"/>
              </a:rPr>
              <a:t>С</a:t>
            </a:r>
            <a:r>
              <a:rPr b="1" i="1" lang="en-US" sz="2800" spc="-1" strike="noStrike">
                <a:solidFill>
                  <a:srgbClr val="495a74"/>
                </a:solidFill>
                <a:latin typeface="Corbel"/>
              </a:rPr>
              <a:t>еребряного века»</a:t>
            </a:r>
            <a:r>
              <a:rPr b="1" i="1" lang="en-US" sz="2800" spc="-1" strike="noStrike">
                <a:solidFill>
                  <a:srgbClr val="495a74"/>
                </a:solidFill>
                <a:latin typeface="Arial"/>
              </a:rPr>
              <a:t> .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495a74"/>
                </a:solidFill>
                <a:latin typeface="Corbel"/>
              </a:rPr>
              <a:t> </a:t>
            </a:r>
            <a:r>
              <a:rPr b="1" i="1" lang="en-US" sz="2800" spc="-1" strike="noStrike">
                <a:solidFill>
                  <a:srgbClr val="495a74"/>
                </a:solidFill>
                <a:latin typeface="Arial"/>
              </a:rPr>
              <a:t>Р</a:t>
            </a:r>
            <a:r>
              <a:rPr b="1" i="1" lang="en-US" sz="2800" spc="-1" strike="noStrike">
                <a:solidFill>
                  <a:srgbClr val="495a74"/>
                </a:solidFill>
                <a:latin typeface="Corbel"/>
              </a:rPr>
              <a:t>усский балет</a:t>
            </a:r>
            <a:r>
              <a:rPr b="0" i="1" lang="en-US" sz="2800" spc="-1" strike="noStrike">
                <a:solidFill>
                  <a:srgbClr val="495a74"/>
                </a:solidFill>
                <a:latin typeface="Arial"/>
              </a:rPr>
              <a:t>.</a:t>
            </a: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i="1" lang="en-US" sz="1800" spc="-1" strike="noStrike">
                <a:solidFill>
                  <a:srgbClr val="495a74"/>
                </a:solidFill>
                <a:latin typeface="Sylfaen"/>
              </a:rPr>
              <a:t>Презентация подготовлена </a:t>
            </a:r>
            <a:br>
              <a:rPr sz="1800"/>
            </a:br>
            <a:r>
              <a:rPr b="1" i="1" lang="en-US" sz="1800" spc="-1" strike="noStrike">
                <a:solidFill>
                  <a:srgbClr val="495a74"/>
                </a:solidFill>
                <a:latin typeface="Sylfaen"/>
              </a:rPr>
              <a:t>учителем МХК МБУ СОШ № 80 г.о.Тольятти </a:t>
            </a:r>
            <a:br>
              <a:rPr sz="1800"/>
            </a:br>
            <a:r>
              <a:rPr b="1" i="1" lang="en-US" sz="1800" spc="-1" strike="noStrike">
                <a:solidFill>
                  <a:srgbClr val="495a74"/>
                </a:solidFill>
                <a:latin typeface="Sylfaen"/>
              </a:rPr>
              <a:t> Ериной Ларисой Викторовной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495a74"/>
                </a:solidFill>
                <a:latin typeface="Sylfaen"/>
              </a:rPr>
              <a:t>2013г.</a:t>
            </a:r>
            <a:br>
              <a:rPr sz="1800"/>
            </a:br>
            <a:endParaRPr b="0" lang="en-US" sz="1800" spc="-1" strike="noStrike">
              <a:solidFill>
                <a:srgbClr val="495a7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495a74"/>
                </a:solidFill>
                <a:latin typeface="Corbel"/>
              </a:rPr>
              <a:t>Заключение</a:t>
            </a:r>
            <a:br>
              <a:rPr sz="3900"/>
            </a:b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28480" y="1071360"/>
            <a:ext cx="642276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7 год будто захлопнул роскошную шкатулку русского балет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Рисунок 4" descr="7944132_boterofernandoballerinatothehandrail1193463.jpg"/>
          <p:cNvPicPr/>
          <p:nvPr/>
        </p:nvPicPr>
        <p:blipFill>
          <a:blip r:embed="rId1"/>
          <a:stretch/>
        </p:blipFill>
        <p:spPr>
          <a:xfrm>
            <a:off x="3357720" y="2571840"/>
            <a:ext cx="32860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Русский балет.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20" name="Содержимое 3" descr="121905988104.gif"/>
          <p:cNvPicPr/>
          <p:nvPr/>
        </p:nvPicPr>
        <p:blipFill>
          <a:blip r:embed="rId1"/>
          <a:stretch/>
        </p:blipFill>
        <p:spPr>
          <a:xfrm>
            <a:off x="1357200" y="1357200"/>
            <a:ext cx="3409920" cy="480060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4"/>
          <p:cNvSpPr/>
          <p:nvPr/>
        </p:nvSpPr>
        <p:spPr>
          <a:xfrm>
            <a:off x="4786200" y="1357200"/>
            <a:ext cx="4143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алетный «Серебряный век» наступил тотчас за «Золотым веком» Петипа. Поиск новых форм, увлечение восточной экзотикой сделали балетный «Серебряный век» явлением цельным, законченным. «Серебряный век» петербургского балета продолжался совсем недолго – от силы полтора десятка лет. Три события положили ему начало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Содержимое 3" descr="f_17638706.jpg"/>
          <p:cNvPicPr/>
          <p:nvPr/>
        </p:nvPicPr>
        <p:blipFill>
          <a:blip r:embed="rId1"/>
          <a:stretch/>
        </p:blipFill>
        <p:spPr>
          <a:xfrm>
            <a:off x="5765760" y="1785960"/>
            <a:ext cx="3378240" cy="480060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1357200" y="35712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2 году на Мариинскую сцену была перенесена московская постановка балета «Дон Кихот». Автором балета был Александр Горский – танцовщик петербургской труппы, только что ставший во главе московского балета. Главную ценность обновленного «Дон Кихота» составляли декорации и костюмы художников Александра Головина и Константина Коровина. В балет впервые пришла современная, сочная, полная жизни театральная живоп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ым случаем проникновения «новой» живописи на императорскую сцену стала «Фея кукол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1904 года в Петербурге впервые выступила Айседора Дункан. Американская танцовщица явила невиданный и совершенно неведомый в России тип танца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оказала, что хореографическое творчество может развиваться не только в строгих канонах классического танц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99760" y="285840"/>
            <a:ext cx="614844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Михаил Фокин.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285560" y="1857240"/>
            <a:ext cx="414324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орматором балетного театра начала ХХ века по праву считается Михаил Фокин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ин быстро занял положение одного из ведущих солистов петербургской трупп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 Фокин пришел к убеждению, что его собственное искусство – балет – нуждается в решительных перемен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Рисунок 3" descr="2.jpg"/>
          <p:cNvPicPr/>
          <p:nvPr/>
        </p:nvPicPr>
        <p:blipFill>
          <a:blip r:embed="rId1"/>
          <a:stretch/>
        </p:blipFill>
        <p:spPr>
          <a:xfrm>
            <a:off x="5786280" y="1071720"/>
            <a:ext cx="300060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495a74"/>
                </a:solidFill>
                <a:latin typeface="Corbel"/>
              </a:rPr>
              <a:t>Анна  Павлова.</a:t>
            </a:r>
            <a:br>
              <a:rPr sz="3900"/>
            </a:b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285800" y="836280"/>
            <a:ext cx="456588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артистка балета, одна из величайших балерин xx век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Вагановского училища, в 1899 году была принята в труппу Мариинского театра. Танцевала партии в классических балетах «Щелкунчик», «Конёк-Горбунок», «Раймонда», «Баядерка», «Жизель». В 1906 году стала ведущей танцовщицей трупп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7 году на благотворительном вечере в Мариинском театре Анна Павлова впервые исполнила поставленную для неё М. Фокиным хореографическую миниатюру «Лебедь» (позже «Умирающий лебедь»), ставшую впоследствии одним из символов русского балета XX век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0 году перешла на так называемое положение «гастролёрши», создала собственную труппу. Вместе с этой труппой гастролировала во многих странах мира. Специально для труппы А. Павловой М. Фокиным были поставлены несколько балетов. Имя Павловой ещё при жизни балерины стало легендарным. Скончалась она в Гааге, во время гастролей, 23 января 1931 года от пневмони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ми её словами были: «Приготовьте мой костюм лебедя!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3" descr="ND23F844AC63B.jpg"/>
          <p:cNvPicPr/>
          <p:nvPr/>
        </p:nvPicPr>
        <p:blipFill>
          <a:blip r:embed="rId2"/>
          <a:stretch/>
        </p:blipFill>
        <p:spPr>
          <a:xfrm>
            <a:off x="1214280" y="1000080"/>
            <a:ext cx="3219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495a74"/>
                </a:solidFill>
                <a:latin typeface="Corbel"/>
              </a:rPr>
              <a:t>Интересные факты.</a:t>
            </a:r>
            <a:br>
              <a:rPr sz="3900"/>
            </a:b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4065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австралийского турне Анна Павлова произвела на публику такое впечатление, что её именем назвали очень популярное пирожное, ставшее национальным символом Австралии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е Павловой посвящён пятисерийный фильм режиссёра Эмиля Лотяну, снятый в 1983 году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AP_Cygne.jpg"/>
          <p:cNvPicPr/>
          <p:nvPr/>
        </p:nvPicPr>
        <p:blipFill>
          <a:blip r:embed="rId1"/>
          <a:stretch/>
        </p:blipFill>
        <p:spPr>
          <a:xfrm>
            <a:off x="5786280" y="1500120"/>
            <a:ext cx="30718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495a74"/>
                </a:solidFill>
                <a:latin typeface="Corbel"/>
              </a:rPr>
              <a:t>Сергей Павлович Дягилев</a:t>
            </a:r>
            <a:br>
              <a:rPr sz="3900"/>
            </a:b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071600" y="907920"/>
            <a:ext cx="50720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Павлович Дягиле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872—1929) — русский театральный и художественный деятель, антрепренёр, один из основоположников группы «Мир Искусства», организатор «Русских сезонов» в Париже и труппы «Русский балет Дягилева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пермской гимназии в 1890 году вернулся в Петербург и поступил на юридический факультет университета, параллельно учился музыке у Н. А. Римского-Корсакова в Петербургской консерватори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07 года Дягилев организовывает ежегодные зарубежные выступления русских артистов, получившие название «Русские сезоны». «Сезоны» были средством пропаганды русского балетного и изобразительного искусства и способствовали расцвету балета в странах, где этот жанр не был разви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1 году Дягилев организовал балетную труппу «Русский балет Дягилева». Труппа начала выступления в 1913 году и просуществовала до 1929 года, то есть до смерти её организатор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гилев скончался 19 августа 1929 года в Венеци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Рисунок 3" descr="b01e1181c40a.jpg"/>
          <p:cNvPicPr/>
          <p:nvPr/>
        </p:nvPicPr>
        <p:blipFill>
          <a:blip r:embed="rId2"/>
          <a:stretch/>
        </p:blipFill>
        <p:spPr>
          <a:xfrm>
            <a:off x="1357200" y="1357200"/>
            <a:ext cx="271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71760" y="1000080"/>
            <a:ext cx="735480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Русский балет Дягилева.</a:t>
            </a:r>
            <a:br>
              <a:rPr sz="3900"/>
            </a:b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Париж.</a:t>
            </a:r>
            <a:br>
              <a:rPr sz="3900"/>
            </a:br>
            <a:r>
              <a:rPr b="0" lang="ru-RU" sz="1800" spc="-1" strike="noStrike">
                <a:solidFill>
                  <a:srgbClr val="495a74"/>
                </a:solidFill>
                <a:latin typeface="Corbel"/>
              </a:rPr>
              <a:t>«</a:t>
            </a:r>
            <a:r>
              <a:rPr b="0" i="1" lang="ru-RU" sz="1800" spc="-1" strike="noStrike">
                <a:solidFill>
                  <a:srgbClr val="495a74"/>
                </a:solidFill>
                <a:latin typeface="Corbel"/>
              </a:rPr>
              <a:t>Красный занавес подымается над праздниками, которые перевернули Францию и которые увлекли толпу в экстазе вслед за колесницей Диониса.»</a:t>
            </a:r>
            <a:endParaRPr b="0" lang="en-US" sz="18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643040" y="3357360"/>
            <a:ext cx="59292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70000" indent="-2088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преле 1909 года труппа Дягилева прибыла в Париж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0" indent="-2088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ьера балетных сезонов обернулась настоящим триумфом. Публика и критики восторженно отзывались о мастерстве русских  танцовщиков (особенно отметив Нижинского, Павлову и Карсавину), об уникальных декорациях и костюмах работы Рериха, Бакста и Бенуа, о музыке Римского-Корсакова, Мусоргского, Глинки, Аренского, Бородина и других композиторов, чьи произведения составили музыкальную основ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0" indent="-2088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857160"/>
            <a:ext cx="7499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95a74"/>
                </a:solidFill>
                <a:latin typeface="Corbel"/>
              </a:rPr>
              <a:t>Русский балет Дягилева.</a:t>
            </a:r>
            <a:br>
              <a:rPr sz="3900"/>
            </a:br>
            <a:r>
              <a:rPr b="0" lang="en-US" sz="3900" spc="-1" strike="noStrike">
                <a:solidFill>
                  <a:srgbClr val="495a74"/>
                </a:solidFill>
                <a:latin typeface="Corbel"/>
              </a:rPr>
              <a:t>США.</a:t>
            </a:r>
            <a:br>
              <a:rPr sz="3900"/>
            </a:b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2143080"/>
            <a:ext cx="3780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 19 в. балетные сцены можно было увидеть только в составе спектаклей, именуемых «экстраваганца», которые еще сохранялись на американской сцен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 трупп, созданных в Европе в надежде повторить достижения Дягилева, оказали влияние на американский балет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основанные в Америке балетные труппы появились в 1930-х года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Рисунок 3" descr="1209628268_22493.jpg"/>
          <p:cNvPicPr/>
          <p:nvPr/>
        </p:nvPicPr>
        <p:blipFill>
          <a:blip r:embed="rId2"/>
          <a:stretch/>
        </p:blipFill>
        <p:spPr>
          <a:xfrm>
            <a:off x="5214960" y="1428840"/>
            <a:ext cx="34671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0:43:58Z</dcterms:created>
  <dc:creator>User</dc:creator>
  <dc:description/>
  <dc:language>en-US</dc:language>
  <cp:lastModifiedBy>User</cp:lastModifiedBy>
  <dcterms:modified xsi:type="dcterms:W3CDTF">2013-06-06T06:41:20Z</dcterms:modified>
  <cp:revision>28</cp:revision>
  <dc:subject/>
  <dc:title>Искусство «серебряного века»: русский балет.</dc:title>
</cp:coreProperties>
</file>